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8843F-AC49-448E-BA85-AD16E6309DE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1931D-9F82-4824-8A65-77F978361AC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DF2CE-0975-4059-860F-DE48F2FB069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41BE0-4A49-476E-B485-725AF489D6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8869D-2F47-4AE2-AC26-9DC7C1C0455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23067-5C63-4B09-AC0C-23E50369025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A5632-EE6A-4978-A2D1-1BBE4E8DBE2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4D229-D93C-4076-B317-350D32E0B58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34C57-5DAA-4761-8A41-EE9A3512EE3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C31CD-956E-451D-9E53-21AA9D37FBA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1C37E-8FEF-45A1-B5F9-2FE54CD4657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CF5A4-7FD4-4145-89EE-955955D831E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79D71-13FD-419F-BEA5-068E6DD6CD7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55564-4E54-4091-87B7-C36E5F59CBD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41C05-EA71-45C4-9575-A4F5E47DA63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EF02E-E1EE-4EFA-B4EA-7B2549CB0F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390F7-F883-4D7C-8CE6-178B1D5C01B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57E67-E993-45B5-98C7-8334A3FC342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600C0-DD3A-4340-9631-18384996BAB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44155-5040-47E9-847B-71732610D64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9A677-CC1C-4BEF-8CBB-1401FF7C5AC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B4685-08FB-44D5-A95E-B5E0AA5042B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BCB65-E7AF-4DFD-A79E-60B514A345A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4AD32-9C76-4416-9C23-855983FA308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429F7-97AF-4218-9169-B1D866C7909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E40F-5F11-4517-AA96-C988CD654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9555-27FB-4F80-9B6E-E729A15CC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3BE6-3E66-4875-8871-AD2FB22F7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87F3-7F92-450E-BFF9-1B021AA8B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16EF2-3BC0-412A-8064-51D3858D2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E2E19-1B5C-482A-83EE-062001FE3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16DAB-848C-4E0B-B5CD-16B77A1F2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ECADB-B86B-4016-9038-2CEF22311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B4A91-1B1E-4B26-A76C-F1FD4F179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36BF0-241C-4C88-85A0-41BB0D688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42AFC-2FB8-4E62-8CAF-9E45821E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0A27-1939-4F7B-BC81-F630FB415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41ECE-E3FC-47A9-AB29-2CF42A47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8CF30-F75F-4E2C-AF8D-B65E6E71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EF227-262C-44B9-B656-BAD4663BD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AB4CB-6047-498F-ACD0-292BB9A69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2B305-ABDD-4D36-B03C-F9A27DD64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91A4-1E48-48AE-8182-68D8A491A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D5C0-3DCA-403A-ACB1-84F1CCC99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EBEE-6458-4015-AD03-A5EE9F7B1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EEA4-A463-49F0-B6C1-C01CE1B4E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3784-2429-46BC-95CC-C5932E768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47E2-FEDD-491A-A829-AF03DC59D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4FBD-C80D-4559-B03A-18BDD2EA6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36672-281D-407D-9EEF-A10938269F6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>
                  <a:gd name="textAreaLeft" fmla="*/ 0 w 7696080"/>
                  <a:gd name="textAreaRight" fmla="*/ 7696440 w 7696080"/>
                  <a:gd name="textAreaTop" fmla="*/ 0 h 685800"/>
                  <a:gd name="textAreaBottom" fmla="*/ 686160 h 685800"/>
                </a:gdLst>
                <a:ahLst/>
                <a:rect l="textAreaLeft" t="textAreaTop" r="textAreaRight" b="textAreaBottom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>
                      <a:gd name="textAreaLeft" fmla="*/ 0 w 11160"/>
                      <a:gd name="textAreaRight" fmla="*/ 11520 w 1116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 algn="ctr"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>
                      <a:gd name="textAreaLeft" fmla="*/ 0 w 14400"/>
                      <a:gd name="textAreaRight" fmla="*/ 14760 w 1440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 algn="ctr"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21960"/>
                      <a:gd name="textAreaBottom" fmla="*/ 22320 h 21960"/>
                    </a:gdLst>
                    <a:ahLst/>
                    <a:rect l="textAreaLeft" t="textAreaTop" r="textAreaRight" b="textAreaBottom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 algn="ctr"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>
                      <a:gd name="textAreaLeft" fmla="*/ 0 w 17280"/>
                      <a:gd name="textAreaRight" fmla="*/ 17640 w 1728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 algn="ctr"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>
                      <a:gd name="textAreaLeft" fmla="*/ 0 w 44640"/>
                      <a:gd name="textAreaRight" fmla="*/ 45000 w 44640"/>
                      <a:gd name="textAreaTop" fmla="*/ 0 h 25200"/>
                      <a:gd name="textAreaBottom" fmla="*/ 25560 h 25200"/>
                    </a:gdLst>
                    <a:ahLst/>
                    <a:rect l="textAreaLeft" t="textAreaTop" r="textAreaRight" b="textAreaBottom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 algn="ctr"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>
                      <a:gd name="textAreaLeft" fmla="*/ 0 w 46080"/>
                      <a:gd name="textAreaRight" fmla="*/ 46440 w 46080"/>
                      <a:gd name="textAreaTop" fmla="*/ 0 h 24840"/>
                      <a:gd name="textAreaBottom" fmla="*/ 25200 h 24840"/>
                    </a:gdLst>
                    <a:ahLst/>
                    <a:rect l="textAreaLeft" t="textAreaTop" r="textAreaRight" b="textAreaBottom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 algn="ctr"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>
                      <a:gd name="textAreaLeft" fmla="*/ 0 w 239760"/>
                      <a:gd name="textAreaRight" fmla="*/ 240120 w 239760"/>
                      <a:gd name="textAreaTop" fmla="*/ 0 h 147240"/>
                      <a:gd name="textAreaBottom" fmla="*/ 147600 h 147240"/>
                    </a:gdLst>
                    <a:ahLst/>
                    <a:rect l="textAreaLeft" t="textAreaTop" r="textAreaRight" b="textAreaBottom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>
                      <a:gd name="textAreaLeft" fmla="*/ 0 w 106200"/>
                      <a:gd name="textAreaRight" fmla="*/ 106560 w 106200"/>
                      <a:gd name="textAreaTop" fmla="*/ 0 h 107640"/>
                      <a:gd name="textAreaBottom" fmla="*/ 108000 h 107640"/>
                    </a:gdLst>
                    <a:ahLst/>
                    <a:rect l="textAreaLeft" t="textAreaTop" r="textAreaRight" b="textAreaBottom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>
                      <a:gd name="textAreaLeft" fmla="*/ 0 w 74520"/>
                      <a:gd name="textAreaRight" fmla="*/ 74880 w 74520"/>
                      <a:gd name="textAreaTop" fmla="*/ 0 h 20520"/>
                      <a:gd name="textAreaBottom" fmla="*/ 20880 h 20520"/>
                    </a:gdLst>
                    <a:ahLst/>
                    <a:rect l="textAreaLeft" t="textAreaTop" r="textAreaRight" b="textAreaBottom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 algn="ctr"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>
                      <a:gd name="textAreaLeft" fmla="*/ 0 w 50760"/>
                      <a:gd name="textAreaRight" fmla="*/ 51120 w 50760"/>
                      <a:gd name="textAreaTop" fmla="*/ 0 h 53640"/>
                      <a:gd name="textAreaBottom" fmla="*/ 54000 h 53640"/>
                    </a:gdLst>
                    <a:ahLst/>
                    <a:rect l="textAreaLeft" t="textAreaTop" r="textAreaRight" b="textAreaBottom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 algn="ctr"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>
                      <a:gd name="textAreaLeft" fmla="*/ 0 w 25200"/>
                      <a:gd name="textAreaRight" fmla="*/ 25560 w 25200"/>
                      <a:gd name="textAreaTop" fmla="*/ 0 h 31320"/>
                      <a:gd name="textAreaBottom" fmla="*/ 31680 h 31320"/>
                    </a:gdLst>
                    <a:ahLst/>
                    <a:rect l="textAreaLeft" t="textAreaTop" r="textAreaRight" b="textAreaBottom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 algn="ctr"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>
                      <a:gd name="textAreaLeft" fmla="*/ 0 w 31680"/>
                      <a:gd name="textAreaRight" fmla="*/ 32040 w 3168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 algn="ctr"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>
                      <a:gd name="textAreaLeft" fmla="*/ 0 w 41040"/>
                      <a:gd name="textAreaRight" fmla="*/ 41400 w 4104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 algn="ctr"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>
                      <a:gd name="textAreaLeft" fmla="*/ 0 w 193680"/>
                      <a:gd name="textAreaRight" fmla="*/ 194040 w 193680"/>
                      <a:gd name="textAreaTop" fmla="*/ 0 h 96480"/>
                      <a:gd name="textAreaBottom" fmla="*/ 96840 h 96480"/>
                    </a:gdLst>
                    <a:ahLst/>
                    <a:rect l="textAreaLeft" t="textAreaTop" r="textAreaRight" b="textAreaBottom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>
                      <a:gd name="textAreaLeft" fmla="*/ 0 w 52560"/>
                      <a:gd name="textAreaRight" fmla="*/ 52920 w 5256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 algn="ctr"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9000"/>
                      <a:gd name="textAreaBottom" fmla="*/ 9360 h 9000"/>
                    </a:gdLst>
                    <a:ahLst/>
                    <a:rect l="textAreaLeft" t="textAreaTop" r="textAreaRight" b="textAreaBottom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 algn="ctr"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>
                      <a:gd name="textAreaLeft" fmla="*/ 0 w 17280"/>
                      <a:gd name="textAreaRight" fmla="*/ 17640 w 1728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 algn="ctr"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 algn="ctr"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 algn="ctr"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>
                      <a:gd name="textAreaLeft" fmla="*/ 0 w 54000"/>
                      <a:gd name="textAreaRight" fmla="*/ 54360 w 54000"/>
                      <a:gd name="textAreaTop" fmla="*/ 0 h 42480"/>
                      <a:gd name="textAreaBottom" fmla="*/ 42840 h 42480"/>
                    </a:gdLst>
                    <a:ahLst/>
                    <a:rect l="textAreaLeft" t="textAreaTop" r="textAreaRight" b="textAreaBottom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 algn="ctr"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91800"/>
                      <a:gd name="textAreaBottom" fmla="*/ 92160 h 91800"/>
                    </a:gdLst>
                    <a:ahLst/>
                    <a:rect l="textAreaLeft" t="textAreaTop" r="textAreaRight" b="textAreaBottom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 algn="ctr"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>
                      <a:gd name="textAreaLeft" fmla="*/ 0 w 22320"/>
                      <a:gd name="textAreaRight" fmla="*/ 22680 w 2232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 algn="ctr"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>
                      <a:gd name="textAreaLeft" fmla="*/ 0 w 29880"/>
                      <a:gd name="textAreaRight" fmla="*/ 30240 w 2988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 algn="ctr"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>
                      <a:gd name="textAreaLeft" fmla="*/ 0 w 474840"/>
                      <a:gd name="textAreaRight" fmla="*/ 475200 w 474840"/>
                      <a:gd name="textAreaTop" fmla="*/ 0 h 284040"/>
                      <a:gd name="textAreaBottom" fmla="*/ 284400 h 284040"/>
                    </a:gdLst>
                    <a:ahLst/>
                    <a:rect l="textAreaLeft" t="textAreaTop" r="textAreaRight" b="textAreaBottom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>
                      <a:gd name="textAreaLeft" fmla="*/ 0 w 666720"/>
                      <a:gd name="textAreaRight" fmla="*/ 667080 w 666720"/>
                      <a:gd name="textAreaTop" fmla="*/ 0 h 448920"/>
                      <a:gd name="textAreaBottom" fmla="*/ 449280 h 448920"/>
                    </a:gdLst>
                    <a:ahLst/>
                    <a:rect l="textAreaLeft" t="textAreaTop" r="textAreaRight" b="textAreaBottom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>
                      <a:gd name="textAreaLeft" fmla="*/ 0 w 24120"/>
                      <a:gd name="textAreaRight" fmla="*/ 24480 w 24120"/>
                      <a:gd name="textAreaTop" fmla="*/ 0 h 25200"/>
                      <a:gd name="textAreaBottom" fmla="*/ 25560 h 25200"/>
                    </a:gdLst>
                    <a:ahLst/>
                    <a:rect l="textAreaLeft" t="textAreaTop" r="textAreaRight" b="textAreaBottom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 algn="ctr"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>
                      <a:gd name="textAreaLeft" fmla="*/ 0 w 25560"/>
                      <a:gd name="textAreaRight" fmla="*/ 25920 w 25560"/>
                      <a:gd name="textAreaTop" fmla="*/ 0 h 18720"/>
                      <a:gd name="textAreaBottom" fmla="*/ 19080 h 18720"/>
                    </a:gdLst>
                    <a:ahLst/>
                    <a:rect l="textAreaLeft" t="textAreaTop" r="textAreaRight" b="textAreaBottom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>
                      <a:gd name="textAreaLeft" fmla="*/ 0 w 115920"/>
                      <a:gd name="textAreaRight" fmla="*/ 116280 w 115920"/>
                      <a:gd name="textAreaTop" fmla="*/ 0 h 52200"/>
                      <a:gd name="textAreaBottom" fmla="*/ 52560 h 52200"/>
                    </a:gdLst>
                    <a:ahLst/>
                    <a:rect l="textAreaLeft" t="textAreaTop" r="textAreaRight" b="textAreaBottom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 algn="ctr"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>
                      <a:gd name="textAreaLeft" fmla="*/ 0 w 93600"/>
                      <a:gd name="textAreaRight" fmla="*/ 93960 w 93600"/>
                      <a:gd name="textAreaTop" fmla="*/ 0 h 23760"/>
                      <a:gd name="textAreaBottom" fmla="*/ 24120 h 23760"/>
                    </a:gdLst>
                    <a:ahLst/>
                    <a:rect l="textAreaLeft" t="textAreaTop" r="textAreaRight" b="textAreaBottom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 algn="ctr"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>
                      <a:gd name="textAreaLeft" fmla="*/ 0 w 38160"/>
                      <a:gd name="textAreaRight" fmla="*/ 38520 w 38160"/>
                      <a:gd name="textAreaTop" fmla="*/ 0 h 21600"/>
                      <a:gd name="textAreaBottom" fmla="*/ 21960 h 21600"/>
                    </a:gdLst>
                    <a:ahLst/>
                    <a:rect l="textAreaLeft" t="textAreaTop" r="textAreaRight" b="textAreaBottom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 algn="ctr"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>
                      <a:gd name="textAreaLeft" fmla="*/ 0 w 25560"/>
                      <a:gd name="textAreaRight" fmla="*/ 25920 w 25560"/>
                      <a:gd name="textAreaTop" fmla="*/ 0 h 28080"/>
                      <a:gd name="textAreaBottom" fmla="*/ 28440 h 28080"/>
                    </a:gdLst>
                    <a:ahLst/>
                    <a:rect l="textAreaLeft" t="textAreaTop" r="textAreaRight" b="textAreaBottom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 algn="ctr"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>
                      <a:gd name="textAreaLeft" fmla="*/ 0 w 29880"/>
                      <a:gd name="textAreaRight" fmla="*/ 30240 w 29880"/>
                      <a:gd name="textAreaTop" fmla="*/ 0 h 42480"/>
                      <a:gd name="textAreaBottom" fmla="*/ 42840 h 42480"/>
                    </a:gdLst>
                    <a:ahLst/>
                    <a:rect l="textAreaLeft" t="textAreaTop" r="textAreaRight" b="textAreaBottom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 algn="ctr"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>
                      <a:gd name="textAreaLeft" fmla="*/ 0 w 325440"/>
                      <a:gd name="textAreaRight" fmla="*/ 325800 w 325440"/>
                      <a:gd name="textAreaTop" fmla="*/ 0 h 64800"/>
                      <a:gd name="textAreaBottom" fmla="*/ 65160 h 64800"/>
                    </a:gdLst>
                    <a:ahLst/>
                    <a:rect l="textAreaLeft" t="textAreaTop" r="textAreaRight" b="textAreaBottom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pPr algn="ctr"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>
                      <a:gd name="textAreaLeft" fmla="*/ 0 w 301680"/>
                      <a:gd name="textAreaRight" fmla="*/ 302040 w 301680"/>
                      <a:gd name="textAreaTop" fmla="*/ 0 h 31320"/>
                      <a:gd name="textAreaBottom" fmla="*/ 31680 h 31320"/>
                    </a:gdLst>
                    <a:ahLst/>
                    <a:rect l="textAreaLeft" t="textAreaTop" r="textAreaRight" b="textAreaBottom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 algn="ctr"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 algn="ctr"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>
                      <a:gd name="textAreaLeft" fmla="*/ 0 w 692280"/>
                      <a:gd name="textAreaRight" fmla="*/ 692640 w 692280"/>
                      <a:gd name="textAreaTop" fmla="*/ 0 h 240840"/>
                      <a:gd name="textAreaBottom" fmla="*/ 241200 h 240840"/>
                    </a:gdLst>
                    <a:ahLst/>
                    <a:rect l="textAreaLeft" t="textAreaTop" r="textAreaRight" b="textAreaBottom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>
                      <a:gd name="textAreaLeft" fmla="*/ 0 w 31680"/>
                      <a:gd name="textAreaRight" fmla="*/ 32040 w 31680"/>
                      <a:gd name="textAreaTop" fmla="*/ 0 h 86760"/>
                      <a:gd name="textAreaBottom" fmla="*/ 86760 h 86760"/>
                    </a:gdLst>
                    <a:ahLst/>
                    <a:rect l="textAreaLeft" t="textAreaTop" r="textAreaRight" b="textAreaBottom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pPr algn="ctr"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>
                      <a:gd name="textAreaLeft" fmla="*/ 0 w 93600"/>
                      <a:gd name="textAreaRight" fmla="*/ 93960 w 93600"/>
                      <a:gd name="textAreaTop" fmla="*/ 0 h 53640"/>
                      <a:gd name="textAreaBottom" fmla="*/ 54000 h 53640"/>
                    </a:gdLst>
                    <a:ahLst/>
                    <a:rect l="textAreaLeft" t="textAreaTop" r="textAreaRight" b="textAreaBottom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 algn="ctr"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>
                      <a:gd name="textAreaLeft" fmla="*/ 0 w 127080"/>
                      <a:gd name="textAreaRight" fmla="*/ 127440 w 127080"/>
                      <a:gd name="textAreaTop" fmla="*/ 0 h 113760"/>
                      <a:gd name="textAreaBottom" fmla="*/ 114120 h 113760"/>
                    </a:gdLst>
                    <a:ahLst/>
                    <a:rect l="textAreaLeft" t="textAreaTop" r="textAreaRight" b="textAreaBottom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>
                      <a:gd name="textAreaLeft" fmla="*/ 0 w 9720"/>
                      <a:gd name="textAreaRight" fmla="*/ 10080 w 9720"/>
                      <a:gd name="textAreaTop" fmla="*/ 0 h 6120"/>
                      <a:gd name="textAreaBottom" fmla="*/ 6480 h 6120"/>
                    </a:gdLst>
                    <a:ahLst/>
                    <a:rect l="textAreaLeft" t="textAreaTop" r="textAreaRight" b="textAreaBottom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 algn="ctr"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>
                      <a:gd name="textAreaLeft" fmla="*/ 0 w 551160"/>
                      <a:gd name="textAreaRight" fmla="*/ 551520 w 551160"/>
                      <a:gd name="textAreaTop" fmla="*/ 0 h 299880"/>
                      <a:gd name="textAreaBottom" fmla="*/ 300240 h 299880"/>
                    </a:gdLst>
                    <a:ahLst/>
                    <a:rect l="textAreaLeft" t="textAreaTop" r="textAreaRight" b="textAreaBottom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>
                      <a:gd name="textAreaLeft" fmla="*/ 0 w 30240"/>
                      <a:gd name="textAreaRight" fmla="*/ 30600 w 30240"/>
                      <a:gd name="textAreaTop" fmla="*/ 0 h 45720"/>
                      <a:gd name="textAreaBottom" fmla="*/ 46080 h 45720"/>
                    </a:gdLst>
                    <a:ahLst/>
                    <a:rect l="textAreaLeft" t="textAreaTop" r="textAreaRight" b="textAreaBottom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 algn="ctr"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>
                      <a:gd name="textAreaLeft" fmla="*/ 0 w 28800"/>
                      <a:gd name="textAreaRight" fmla="*/ 29160 w 28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 algn="ctr"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>
                      <a:gd name="textAreaLeft" fmla="*/ 0 w 14400"/>
                      <a:gd name="textAreaRight" fmla="*/ 14760 w 1440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 algn="ctr"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>
                      <a:gd name="textAreaLeft" fmla="*/ 0 w 687600"/>
                      <a:gd name="textAreaRight" fmla="*/ 687960 w 687600"/>
                      <a:gd name="textAreaTop" fmla="*/ 0 h 561600"/>
                      <a:gd name="textAreaBottom" fmla="*/ 561960 h 561600"/>
                    </a:gdLst>
                    <a:ahLst/>
                    <a:rect l="textAreaLeft" t="textAreaTop" r="textAreaRight" b="textAreaBottom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>
                      <a:gd name="textAreaLeft" fmla="*/ 0 w 258840"/>
                      <a:gd name="textAreaRight" fmla="*/ 259200 w 258840"/>
                      <a:gd name="textAreaTop" fmla="*/ 0 h 350640"/>
                      <a:gd name="textAreaBottom" fmla="*/ 351000 h 350640"/>
                    </a:gdLst>
                    <a:ahLst/>
                    <a:rect l="textAreaLeft" t="textAreaTop" r="textAreaRight" b="textAreaBottom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>
                      <a:gd name="textAreaLeft" fmla="*/ 0 w 11160"/>
                      <a:gd name="textAreaRight" fmla="*/ 11520 w 11160"/>
                      <a:gd name="textAreaTop" fmla="*/ 0 h 18720"/>
                      <a:gd name="textAreaBottom" fmla="*/ 19080 h 18720"/>
                    </a:gdLst>
                    <a:ahLst/>
                    <a:rect l="textAreaLeft" t="textAreaTop" r="textAreaRight" b="textAreaBottom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>
                      <a:gd name="textAreaLeft" fmla="*/ 0 w 14400"/>
                      <a:gd name="textAreaRight" fmla="*/ 14760 w 14400"/>
                      <a:gd name="textAreaTop" fmla="*/ 0 h 10800"/>
                      <a:gd name="textAreaBottom" fmla="*/ 11160 h 10800"/>
                    </a:gdLst>
                    <a:ahLst/>
                    <a:rect l="textAreaLeft" t="textAreaTop" r="textAreaRight" b="textAreaBottom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 algn="ctr"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>
                      <a:gd name="textAreaLeft" fmla="*/ 0 w 39600"/>
                      <a:gd name="textAreaRight" fmla="*/ 39960 w 3960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 algn="ctr"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>
                      <a:gd name="textAreaLeft" fmla="*/ 0 w 468360"/>
                      <a:gd name="textAreaRight" fmla="*/ 468720 w 468360"/>
                      <a:gd name="textAreaTop" fmla="*/ 0 h 369360"/>
                      <a:gd name="textAreaBottom" fmla="*/ 369720 h 369360"/>
                    </a:gdLst>
                    <a:ahLst/>
                    <a:rect l="textAreaLeft" t="textAreaTop" r="textAreaRight" b="textAreaBottom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>
                      <a:gd name="textAreaLeft" fmla="*/ 0 w 938160"/>
                      <a:gd name="textAreaRight" fmla="*/ 938520 w 938160"/>
                      <a:gd name="textAreaTop" fmla="*/ 0 h 150480"/>
                      <a:gd name="textAreaBottom" fmla="*/ 150840 h 150480"/>
                    </a:gdLst>
                    <a:ahLst/>
                    <a:rect l="textAreaLeft" t="textAreaTop" r="textAreaRight" b="textAreaBottom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 algn="ctr"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>
                      <a:gd name="textAreaLeft" fmla="*/ 0 w 29880"/>
                      <a:gd name="textAreaRight" fmla="*/ 30240 w 2988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 algn="ctr"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>
                      <a:gd name="textAreaLeft" fmla="*/ 0 w 50760"/>
                      <a:gd name="textAreaRight" fmla="*/ 51120 w 50760"/>
                      <a:gd name="textAreaTop" fmla="*/ 0 h 9360"/>
                      <a:gd name="textAreaBottom" fmla="*/ 9720 h 9360"/>
                    </a:gdLst>
                    <a:ahLst/>
                    <a:rect l="textAreaLeft" t="textAreaTop" r="textAreaRight" b="textAreaBottom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 algn="ctr"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23400"/>
                      <a:gd name="textAreaBottom" fmla="*/ 23760 h 23400"/>
                    </a:gdLst>
                    <a:ahLst/>
                    <a:rect l="textAreaLeft" t="textAreaTop" r="textAreaRight" b="textAreaBottom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 algn="ctr"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>
                      <a:gd name="textAreaLeft" fmla="*/ 0 w 22320"/>
                      <a:gd name="textAreaRight" fmla="*/ 22680 w 2232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 algn="ctr"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21960"/>
                      <a:gd name="textAreaBottom" fmla="*/ 22320 h 21960"/>
                    </a:gdLst>
                    <a:ahLst/>
                    <a:rect l="textAreaLeft" t="textAreaTop" r="textAreaRight" b="textAreaBottom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 algn="ctr"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>
                      <a:gd name="textAreaLeft" fmla="*/ 0 w 17640"/>
                      <a:gd name="textAreaRight" fmla="*/ 18000 w 1764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 algn="ctr"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>
                      <a:gd name="textAreaLeft" fmla="*/ 0 w 44640"/>
                      <a:gd name="textAreaRight" fmla="*/ 45000 w 44640"/>
                      <a:gd name="textAreaTop" fmla="*/ 0 h 25200"/>
                      <a:gd name="textAreaBottom" fmla="*/ 25560 h 25200"/>
                    </a:gdLst>
                    <a:ahLst/>
                    <a:rect l="textAreaLeft" t="textAreaTop" r="textAreaRight" b="textAreaBottom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 algn="ctr"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24840"/>
                      <a:gd name="textAreaBottom" fmla="*/ 25200 h 24840"/>
                    </a:gdLst>
                    <a:ahLst/>
                    <a:rect l="textAreaLeft" t="textAreaTop" r="textAreaRight" b="textAreaBottom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 algn="ctr"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>
                      <a:gd name="textAreaLeft" fmla="*/ 0 w 239760"/>
                      <a:gd name="textAreaRight" fmla="*/ 240120 w 239760"/>
                      <a:gd name="textAreaTop" fmla="*/ 0 h 147240"/>
                      <a:gd name="textAreaBottom" fmla="*/ 147600 h 147240"/>
                    </a:gdLst>
                    <a:ahLst/>
                    <a:rect l="textAreaLeft" t="textAreaTop" r="textAreaRight" b="textAreaBottom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>
                      <a:gd name="textAreaLeft" fmla="*/ 0 w 106200"/>
                      <a:gd name="textAreaRight" fmla="*/ 106560 w 106200"/>
                      <a:gd name="textAreaTop" fmla="*/ 0 h 107640"/>
                      <a:gd name="textAreaBottom" fmla="*/ 108000 h 107640"/>
                    </a:gdLst>
                    <a:ahLst/>
                    <a:rect l="textAreaLeft" t="textAreaTop" r="textAreaRight" b="textAreaBottom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>
                      <a:gd name="textAreaLeft" fmla="*/ 0 w 74520"/>
                      <a:gd name="textAreaRight" fmla="*/ 74880 w 74520"/>
                      <a:gd name="textAreaTop" fmla="*/ 0 h 20520"/>
                      <a:gd name="textAreaBottom" fmla="*/ 20880 h 20520"/>
                    </a:gdLst>
                    <a:ahLst/>
                    <a:rect l="textAreaLeft" t="textAreaTop" r="textAreaRight" b="textAreaBottom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 algn="ctr"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>
                      <a:gd name="textAreaLeft" fmla="*/ 0 w 50760"/>
                      <a:gd name="textAreaRight" fmla="*/ 51120 w 50760"/>
                      <a:gd name="textAreaTop" fmla="*/ 0 h 53640"/>
                      <a:gd name="textAreaBottom" fmla="*/ 54000 h 53640"/>
                    </a:gdLst>
                    <a:ahLst/>
                    <a:rect l="textAreaLeft" t="textAreaTop" r="textAreaRight" b="textAreaBottom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 algn="ctr"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>
                      <a:gd name="textAreaLeft" fmla="*/ 0 w 25200"/>
                      <a:gd name="textAreaRight" fmla="*/ 25560 w 25200"/>
                      <a:gd name="textAreaTop" fmla="*/ 0 h 31320"/>
                      <a:gd name="textAreaBottom" fmla="*/ 31680 h 31320"/>
                    </a:gdLst>
                    <a:ahLst/>
                    <a:rect l="textAreaLeft" t="textAreaTop" r="textAreaRight" b="textAreaBottom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 algn="ctr"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>
                      <a:gd name="textAreaLeft" fmla="*/ 0 w 32040"/>
                      <a:gd name="textAreaRight" fmla="*/ 32400 w 3204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 algn="ctr"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>
                      <a:gd name="textAreaLeft" fmla="*/ 0 w 41400"/>
                      <a:gd name="textAreaRight" fmla="*/ 41760 w 4140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 algn="ctr"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>
                      <a:gd name="textAreaLeft" fmla="*/ 0 w 193680"/>
                      <a:gd name="textAreaRight" fmla="*/ 194040 w 193680"/>
                      <a:gd name="textAreaTop" fmla="*/ 0 h 96480"/>
                      <a:gd name="textAreaBottom" fmla="*/ 96840 h 96480"/>
                    </a:gdLst>
                    <a:ahLst/>
                    <a:rect l="textAreaLeft" t="textAreaTop" r="textAreaRight" b="textAreaBottom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>
                      <a:gd name="textAreaLeft" fmla="*/ 0 w 52560"/>
                      <a:gd name="textAreaRight" fmla="*/ 52920 w 5256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 algn="ctr"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9000"/>
                      <a:gd name="textAreaBottom" fmla="*/ 9360 h 9000"/>
                    </a:gdLst>
                    <a:ahLst/>
                    <a:rect l="textAreaLeft" t="textAreaTop" r="textAreaRight" b="textAreaBottom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 algn="ctr"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 algn="ctr"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 algn="ctr"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>
                      <a:gd name="textAreaLeft" fmla="*/ 0 w 54000"/>
                      <a:gd name="textAreaRight" fmla="*/ 54360 w 54000"/>
                      <a:gd name="textAreaTop" fmla="*/ 0 h 42480"/>
                      <a:gd name="textAreaBottom" fmla="*/ 42840 h 42480"/>
                    </a:gdLst>
                    <a:ahLst/>
                    <a:rect l="textAreaLeft" t="textAreaTop" r="textAreaRight" b="textAreaBottom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 algn="ctr"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>
                      <a:gd name="textAreaLeft" fmla="*/ 0 w 63720"/>
                      <a:gd name="textAreaRight" fmla="*/ 64080 w 63720"/>
                      <a:gd name="textAreaTop" fmla="*/ 0 h 91800"/>
                      <a:gd name="textAreaBottom" fmla="*/ 92160 h 91800"/>
                    </a:gdLst>
                    <a:ahLst/>
                    <a:rect l="textAreaLeft" t="textAreaTop" r="textAreaRight" b="textAreaBottom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 algn="ctr"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>
                      <a:gd name="textAreaLeft" fmla="*/ 0 w 22320"/>
                      <a:gd name="textAreaRight" fmla="*/ 22680 w 2232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 algn="ctr"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>
                      <a:gd name="textAreaLeft" fmla="*/ 0 w 30240"/>
                      <a:gd name="textAreaRight" fmla="*/ 30600 w 3024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 algn="ctr"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 algn="ctr"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>
                      <a:gd name="textAreaLeft" fmla="*/ 0 w 695160"/>
                      <a:gd name="textAreaRight" fmla="*/ 695520 w 695160"/>
                      <a:gd name="textAreaTop" fmla="*/ 0 h 240840"/>
                      <a:gd name="textAreaBottom" fmla="*/ 241200 h 240840"/>
                    </a:gdLst>
                    <a:ahLst/>
                    <a:rect l="textAreaLeft" t="textAreaTop" r="textAreaRight" b="textAreaBottom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>
                      <a:gd name="textAreaLeft" fmla="*/ 0 w 32040"/>
                      <a:gd name="textAreaRight" fmla="*/ 32400 w 32040"/>
                      <a:gd name="textAreaTop" fmla="*/ 0 h 87120"/>
                      <a:gd name="textAreaBottom" fmla="*/ 87480 h 87120"/>
                    </a:gdLst>
                    <a:ahLst/>
                    <a:rect l="textAreaLeft" t="textAreaTop" r="textAreaRight" b="textAreaBottom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 algn="ctr"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>
                      <a:gd name="textAreaLeft" fmla="*/ 0 w 93960"/>
                      <a:gd name="textAreaRight" fmla="*/ 94320 w 93960"/>
                      <a:gd name="textAreaTop" fmla="*/ 0 h 53640"/>
                      <a:gd name="textAreaBottom" fmla="*/ 54000 h 53640"/>
                    </a:gdLst>
                    <a:ahLst/>
                    <a:rect l="textAreaLeft" t="textAreaTop" r="textAreaRight" b="textAreaBottom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 algn="ctr"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>
                      <a:gd name="textAreaLeft" fmla="*/ 0 w 126720"/>
                      <a:gd name="textAreaRight" fmla="*/ 127080 w 126720"/>
                      <a:gd name="textAreaTop" fmla="*/ 0 h 113760"/>
                      <a:gd name="textAreaBottom" fmla="*/ 114120 h 113760"/>
                    </a:gdLst>
                    <a:ahLst/>
                    <a:rect l="textAreaLeft" t="textAreaTop" r="textAreaRight" b="textAreaBottom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>
                      <a:gd name="textAreaLeft" fmla="*/ 0 w 9720"/>
                      <a:gd name="textAreaRight" fmla="*/ 10080 w 9720"/>
                      <a:gd name="textAreaTop" fmla="*/ 0 h 6120"/>
                      <a:gd name="textAreaBottom" fmla="*/ 6480 h 6120"/>
                    </a:gdLst>
                    <a:ahLst/>
                    <a:rect l="textAreaLeft" t="textAreaTop" r="textAreaRight" b="textAreaBottom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 algn="ctr"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>
                      <a:gd name="textAreaLeft" fmla="*/ 0 w 550800"/>
                      <a:gd name="textAreaRight" fmla="*/ 551160 w 550800"/>
                      <a:gd name="textAreaTop" fmla="*/ 0 h 299880"/>
                      <a:gd name="textAreaBottom" fmla="*/ 300240 h 299880"/>
                    </a:gdLst>
                    <a:ahLst/>
                    <a:rect l="textAreaLeft" t="textAreaTop" r="textAreaRight" b="textAreaBottom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>
                      <a:gd name="textAreaLeft" fmla="*/ 0 w 30240"/>
                      <a:gd name="textAreaRight" fmla="*/ 30600 w 30240"/>
                      <a:gd name="textAreaTop" fmla="*/ 0 h 45720"/>
                      <a:gd name="textAreaBottom" fmla="*/ 46080 h 45720"/>
                    </a:gdLst>
                    <a:ahLst/>
                    <a:rect l="textAreaLeft" t="textAreaTop" r="textAreaRight" b="textAreaBottom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 algn="ctr"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 algn="ctr"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>
                      <a:gd name="textAreaLeft" fmla="*/ 0 w 14040"/>
                      <a:gd name="textAreaRight" fmla="*/ 14400 w 1404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 algn="ctr"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>
                      <a:gd name="textAreaLeft" fmla="*/ 0 w 687240"/>
                      <a:gd name="textAreaRight" fmla="*/ 687600 w 687240"/>
                      <a:gd name="textAreaTop" fmla="*/ 0 h 561600"/>
                      <a:gd name="textAreaBottom" fmla="*/ 561960 h 561600"/>
                    </a:gdLst>
                    <a:ahLst/>
                    <a:rect l="textAreaLeft" t="textAreaTop" r="textAreaRight" b="textAreaBottom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>
                      <a:gd name="textAreaLeft" fmla="*/ 0 w 258840"/>
                      <a:gd name="textAreaRight" fmla="*/ 259200 w 258840"/>
                      <a:gd name="textAreaTop" fmla="*/ 0 h 350280"/>
                      <a:gd name="textAreaBottom" fmla="*/ 350640 h 350280"/>
                    </a:gdLst>
                    <a:ahLst/>
                    <a:rect l="textAreaLeft" t="textAreaTop" r="textAreaRight" b="textAreaBottom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>
                      <a:gd name="textAreaLeft" fmla="*/ 0 w 11160"/>
                      <a:gd name="textAreaRight" fmla="*/ 11520 w 11160"/>
                      <a:gd name="textAreaTop" fmla="*/ 0 h 18720"/>
                      <a:gd name="textAreaBottom" fmla="*/ 19080 h 18720"/>
                    </a:gdLst>
                    <a:ahLst/>
                    <a:rect l="textAreaLeft" t="textAreaTop" r="textAreaRight" b="textAreaBottom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>
                      <a:gd name="textAreaLeft" fmla="*/ 0 w 14400"/>
                      <a:gd name="textAreaRight" fmla="*/ 14760 w 14400"/>
                      <a:gd name="textAreaTop" fmla="*/ 0 h 10800"/>
                      <a:gd name="textAreaBottom" fmla="*/ 11160 h 10800"/>
                    </a:gdLst>
                    <a:ahLst/>
                    <a:rect l="textAreaLeft" t="textAreaTop" r="textAreaRight" b="textAreaBottom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 algn="ctr"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>
                      <a:gd name="textAreaLeft" fmla="*/ 0 w 39600"/>
                      <a:gd name="textAreaRight" fmla="*/ 39960 w 3960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 algn="ctr"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>
                      <a:gd name="textAreaLeft" fmla="*/ 0 w 468360"/>
                      <a:gd name="textAreaRight" fmla="*/ 468720 w 468360"/>
                      <a:gd name="textAreaTop" fmla="*/ 0 h 369360"/>
                      <a:gd name="textAreaBottom" fmla="*/ 369720 h 369360"/>
                    </a:gdLst>
                    <a:ahLst/>
                    <a:rect l="textAreaLeft" t="textAreaTop" r="textAreaRight" b="textAreaBottom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>
                      <a:gd name="textAreaLeft" fmla="*/ 0 w 938160"/>
                      <a:gd name="textAreaRight" fmla="*/ 938520 w 938160"/>
                      <a:gd name="textAreaTop" fmla="*/ 0 h 150480"/>
                      <a:gd name="textAreaBottom" fmla="*/ 150840 h 150480"/>
                    </a:gdLst>
                    <a:ahLst/>
                    <a:rect l="textAreaLeft" t="textAreaTop" r="textAreaRight" b="textAreaBottom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 algn="ctr"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>
                      <a:gd name="textAreaLeft" fmla="*/ 0 w 30240"/>
                      <a:gd name="textAreaRight" fmla="*/ 30600 w 3024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 algn="ctr"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>
                      <a:gd name="textAreaLeft" fmla="*/ 0 w 50760"/>
                      <a:gd name="textAreaRight" fmla="*/ 51120 w 50760"/>
                      <a:gd name="textAreaTop" fmla="*/ 0 h 9360"/>
                      <a:gd name="textAreaBottom" fmla="*/ 9720 h 9360"/>
                    </a:gdLst>
                    <a:ahLst/>
                    <a:rect l="textAreaLeft" t="textAreaTop" r="textAreaRight" b="textAreaBottom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 algn="ctr"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23400"/>
                      <a:gd name="textAreaBottom" fmla="*/ 23760 h 23400"/>
                    </a:gdLst>
                    <a:ahLst/>
                    <a:rect l="textAreaLeft" t="textAreaTop" r="textAreaRight" b="textAreaBottom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 algn="ctr"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>
                      <a:gd name="textAreaLeft" fmla="*/ 0 w 21960"/>
                      <a:gd name="textAreaRight" fmla="*/ 22320 w 2196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 algn="ctr"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earth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195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6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197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custGeom>
                <a:avLst/>
                <a:gdLst>
                  <a:gd name="textAreaLeft" fmla="*/ 0 w 7501320"/>
                  <a:gd name="textAreaRight" fmla="*/ 7501680 w 7501320"/>
                  <a:gd name="textAreaTop" fmla="*/ 0 h 1584720"/>
                  <a:gd name="textAreaBottom" fmla="*/ 1585080 h 1584720"/>
                </a:gdLst>
                <a:ahLst/>
                <a:rect l="textAreaLeft" t="textAreaTop" r="textAreaRight" b="textAreaBottom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98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199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custGeom>
                  <a:avLst/>
                  <a:gdLst>
                    <a:gd name="textAreaLeft" fmla="*/ 0 w 21960"/>
                    <a:gd name="textAreaRight" fmla="*/ 22320 w 21960"/>
                    <a:gd name="textAreaTop" fmla="*/ 0 h 30600"/>
                    <a:gd name="textAreaBottom" fmla="*/ 30960 h 30600"/>
                  </a:gdLst>
                  <a:ahLst/>
                  <a:rect l="textAreaLeft" t="textAreaTop" r="textAreaRight" b="textAreaBottom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30600"/>
                    <a:gd name="textAreaBottom" fmla="*/ 30960 h 30600"/>
                  </a:gdLst>
                  <a:ahLst/>
                  <a:rect l="textAreaLeft" t="textAreaTop" r="textAreaRight" b="textAreaBottom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custGeom>
                  <a:avLst/>
                  <a:gdLst>
                    <a:gd name="textAreaLeft" fmla="*/ 0 w 40320"/>
                    <a:gd name="textAreaRight" fmla="*/ 40680 w 40320"/>
                    <a:gd name="textAreaTop" fmla="*/ 0 h 52200"/>
                    <a:gd name="textAreaBottom" fmla="*/ 52560 h 52200"/>
                  </a:gdLst>
                  <a:ahLst/>
                  <a:rect l="textAreaLeft" t="textAreaTop" r="textAreaRight" b="textAreaBottom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custGeom>
                  <a:avLst/>
                  <a:gdLst>
                    <a:gd name="textAreaLeft" fmla="*/ 0 w 32400"/>
                    <a:gd name="textAreaRight" fmla="*/ 32760 w 32400"/>
                    <a:gd name="textAreaTop" fmla="*/ 0 h 18360"/>
                    <a:gd name="textAreaBottom" fmla="*/ 18720 h 18360"/>
                  </a:gdLst>
                  <a:ahLst/>
                  <a:rect l="textAreaLeft" t="textAreaTop" r="textAreaRight" b="textAreaBottom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custGeom>
                  <a:avLst/>
                  <a:gdLst>
                    <a:gd name="textAreaLeft" fmla="*/ 0 w 88560"/>
                    <a:gd name="textAreaRight" fmla="*/ 88920 w 8856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custGeom>
                  <a:avLst/>
                  <a:gdLst>
                    <a:gd name="textAreaLeft" fmla="*/ 0 w 460800"/>
                    <a:gd name="textAreaRight" fmla="*/ 461160 w 460800"/>
                    <a:gd name="textAreaTop" fmla="*/ 0 h 349920"/>
                    <a:gd name="textAreaBottom" fmla="*/ 350280 h 349920"/>
                  </a:gdLst>
                  <a:ahLst/>
                  <a:rect l="textAreaLeft" t="textAreaTop" r="textAreaRight" b="textAreaBottom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custGeom>
                  <a:avLst/>
                  <a:gdLst>
                    <a:gd name="textAreaLeft" fmla="*/ 0 w 204480"/>
                    <a:gd name="textAreaRight" fmla="*/ 204840 w 204480"/>
                    <a:gd name="textAreaTop" fmla="*/ 0 h 256320"/>
                    <a:gd name="textAreaBottom" fmla="*/ 256680 h 256320"/>
                  </a:gdLst>
                  <a:ahLst/>
                  <a:rect l="textAreaLeft" t="textAreaTop" r="textAreaRight" b="textAreaBottom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custGeom>
                  <a:avLst/>
                  <a:gdLst>
                    <a:gd name="textAreaLeft" fmla="*/ 0 w 142920"/>
                    <a:gd name="textAreaRight" fmla="*/ 143280 w 14292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custGeom>
                  <a:avLst/>
                  <a:gdLst>
                    <a:gd name="textAreaLeft" fmla="*/ 0 w 97560"/>
                    <a:gd name="textAreaRight" fmla="*/ 97920 w 97560"/>
                    <a:gd name="textAreaTop" fmla="*/ 0 h 128520"/>
                    <a:gd name="textAreaBottom" fmla="*/ 128880 h 128520"/>
                  </a:gdLst>
                  <a:ahLst/>
                  <a:rect l="textAreaLeft" t="textAreaTop" r="textAreaRight" b="textAreaBottom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custGeom>
                  <a:avLst/>
                  <a:gdLst>
                    <a:gd name="textAreaLeft" fmla="*/ 0 w 60840"/>
                    <a:gd name="textAreaRight" fmla="*/ 61200 w 608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custGeom>
                  <a:avLst/>
                  <a:gdLst>
                    <a:gd name="textAreaLeft" fmla="*/ 0 w 79200"/>
                    <a:gd name="textAreaRight" fmla="*/ 79560 w 79200"/>
                    <a:gd name="textAreaTop" fmla="*/ 0 h 64080"/>
                    <a:gd name="textAreaBottom" fmla="*/ 64440 h 64080"/>
                  </a:gdLst>
                  <a:ahLst/>
                  <a:rect l="textAreaLeft" t="textAreaTop" r="textAreaRight" b="textAreaBottom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custGeom>
                  <a:avLst/>
                  <a:gdLst>
                    <a:gd name="textAreaLeft" fmla="*/ 0 w 372240"/>
                    <a:gd name="textAreaRight" fmla="*/ 372600 w 3722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custGeom>
                  <a:avLst/>
                  <a:gdLst>
                    <a:gd name="textAreaLeft" fmla="*/ 0 w 101520"/>
                    <a:gd name="textAreaRight" fmla="*/ 101880 w 10152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custGeom>
                  <a:avLst/>
                  <a:gdLst>
                    <a:gd name="textAreaLeft" fmla="*/ 0 w 24480"/>
                    <a:gd name="textAreaRight" fmla="*/ 24840 w 24480"/>
                    <a:gd name="textAreaTop" fmla="*/ 0 h 21240"/>
                    <a:gd name="textAreaBottom" fmla="*/ 21600 h 21240"/>
                  </a:gdLst>
                  <a:ahLst/>
                  <a:rect l="textAreaLeft" t="textAreaTop" r="textAreaRight" b="textAreaBottom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custGeom>
                  <a:avLst/>
                  <a:gdLst>
                    <a:gd name="textAreaLeft" fmla="*/ 0 w 24480"/>
                    <a:gd name="textAreaRight" fmla="*/ 24840 w 24480"/>
                    <a:gd name="textAreaTop" fmla="*/ 0 h 18360"/>
                    <a:gd name="textAreaBottom" fmla="*/ 18720 h 18360"/>
                  </a:gdLst>
                  <a:ahLst/>
                  <a:rect l="textAreaLeft" t="textAreaTop" r="textAreaRight" b="textAreaBottom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custGeom>
                  <a:avLst/>
                  <a:gdLst>
                    <a:gd name="textAreaLeft" fmla="*/ 0 w 24480"/>
                    <a:gd name="textAreaRight" fmla="*/ 24840 w 24480"/>
                    <a:gd name="textAreaTop" fmla="*/ 0 h 18360"/>
                    <a:gd name="textAreaBottom" fmla="*/ 18720 h 18360"/>
                  </a:gdLst>
                  <a:ahLst/>
                  <a:rect l="textAreaLeft" t="textAreaTop" r="textAreaRight" b="textAreaBottom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custGeom>
                  <a:avLst/>
                  <a:gdLst>
                    <a:gd name="textAreaLeft" fmla="*/ 0 w 104040"/>
                    <a:gd name="textAreaRight" fmla="*/ 104400 w 104040"/>
                    <a:gd name="textAreaTop" fmla="*/ 0 h 101160"/>
                    <a:gd name="textAreaBottom" fmla="*/ 101520 h 101160"/>
                  </a:gdLst>
                  <a:ahLst/>
                  <a:rect l="textAreaLeft" t="textAreaTop" r="textAreaRight" b="textAreaBottom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custGeom>
                  <a:avLst/>
                  <a:gdLst>
                    <a:gd name="textAreaLeft" fmla="*/ 0 w 122040"/>
                    <a:gd name="textAreaRight" fmla="*/ 122400 w 122040"/>
                    <a:gd name="textAreaTop" fmla="*/ 0 h 217800"/>
                    <a:gd name="textAreaBottom" fmla="*/ 218160 h 217800"/>
                  </a:gdLst>
                  <a:ahLst/>
                  <a:rect l="textAreaLeft" t="textAreaTop" r="textAreaRight" b="textAreaBottom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custGeom>
                  <a:avLst/>
                  <a:gdLst>
                    <a:gd name="textAreaLeft" fmla="*/ 0 w 41760"/>
                    <a:gd name="textAreaRight" fmla="*/ 42120 w 417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custGeom>
                  <a:avLst/>
                  <a:gdLst>
                    <a:gd name="textAreaLeft" fmla="*/ 0 w 58680"/>
                    <a:gd name="textAreaRight" fmla="*/ 59040 w 5868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custGeom>
                  <a:avLst/>
                  <a:gdLst>
                    <a:gd name="textAreaLeft" fmla="*/ 0 w 912600"/>
                    <a:gd name="textAreaRight" fmla="*/ 912960 w 912600"/>
                    <a:gd name="textAreaTop" fmla="*/ 0 h 672480"/>
                    <a:gd name="textAreaBottom" fmla="*/ 672840 h 672480"/>
                  </a:gdLst>
                  <a:ahLst/>
                  <a:rect l="textAreaLeft" t="textAreaTop" r="textAreaRight" b="textAreaBottom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custGeom>
                  <a:avLst/>
                  <a:gdLst>
                    <a:gd name="textAreaLeft" fmla="*/ 0 w 1281240"/>
                    <a:gd name="textAreaRight" fmla="*/ 1281600 w 1281240"/>
                    <a:gd name="textAreaTop" fmla="*/ 0 h 1062720"/>
                    <a:gd name="textAreaBottom" fmla="*/ 1063080 h 1062720"/>
                  </a:gdLst>
                  <a:ahLst/>
                  <a:rect l="textAreaLeft" t="textAreaTop" r="textAreaRight" b="textAreaBottom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custGeom>
                  <a:avLst/>
                  <a:gdLst>
                    <a:gd name="textAreaLeft" fmla="*/ 0 w 46440"/>
                    <a:gd name="textAreaRight" fmla="*/ 46800 w 4644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custGeom>
                  <a:avLst/>
                  <a:gdLst>
                    <a:gd name="textAreaLeft" fmla="*/ 0 w 49320"/>
                    <a:gd name="textAreaRight" fmla="*/ 49680 w 49320"/>
                    <a:gd name="textAreaTop" fmla="*/ 0 h 44280"/>
                    <a:gd name="textAreaBottom" fmla="*/ 44640 h 44280"/>
                  </a:gdLst>
                  <a:ahLst/>
                  <a:rect l="textAreaLeft" t="textAreaTop" r="textAreaRight" b="textAreaBottom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custGeom>
                  <a:avLst/>
                  <a:gdLst>
                    <a:gd name="textAreaLeft" fmla="*/ 0 w 222480"/>
                    <a:gd name="textAreaRight" fmla="*/ 222840 w 222480"/>
                    <a:gd name="textAreaTop" fmla="*/ 0 h 124560"/>
                    <a:gd name="textAreaBottom" fmla="*/ 124920 h 124560"/>
                  </a:gdLst>
                  <a:ahLst/>
                  <a:rect l="textAreaLeft" t="textAreaTop" r="textAreaRight" b="textAreaBottom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custGeom>
                  <a:avLst/>
                  <a:gdLst>
                    <a:gd name="textAreaLeft" fmla="*/ 0 w 179640"/>
                    <a:gd name="textAreaRight" fmla="*/ 180000 w 179640"/>
                    <a:gd name="textAreaTop" fmla="*/ 0 h 56880"/>
                    <a:gd name="textAreaBottom" fmla="*/ 57240 h 56880"/>
                  </a:gdLst>
                  <a:ahLst/>
                  <a:rect l="textAreaLeft" t="textAreaTop" r="textAreaRight" b="textAreaBottom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custGeom>
                  <a:avLst/>
                  <a:gdLst>
                    <a:gd name="textAreaLeft" fmla="*/ 0 w 72720"/>
                    <a:gd name="textAreaRight" fmla="*/ 73080 w 72720"/>
                    <a:gd name="textAreaTop" fmla="*/ 0 h 52200"/>
                    <a:gd name="textAreaBottom" fmla="*/ 52560 h 52200"/>
                  </a:gdLst>
                  <a:ahLst/>
                  <a:rect l="textAreaLeft" t="textAreaTop" r="textAreaRight" b="textAreaBottom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67320"/>
                    <a:gd name="textAreaBottom" fmla="*/ 67680 h 67320"/>
                  </a:gdLst>
                  <a:ahLst/>
                  <a:rect l="textAreaLeft" t="textAreaTop" r="textAreaRight" b="textAreaBottom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custGeom>
                  <a:avLst/>
                  <a:gdLst>
                    <a:gd name="textAreaLeft" fmla="*/ 0 w 58320"/>
                    <a:gd name="textAreaRight" fmla="*/ 58680 w 58320"/>
                    <a:gd name="textAreaTop" fmla="*/ 0 h 101160"/>
                    <a:gd name="textAreaBottom" fmla="*/ 101520 h 101160"/>
                  </a:gdLst>
                  <a:ahLst/>
                  <a:rect l="textAreaLeft" t="textAreaTop" r="textAreaRight" b="textAreaBottom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custGeom>
                  <a:avLst/>
                  <a:gdLst>
                    <a:gd name="textAreaLeft" fmla="*/ 0 w 624960"/>
                    <a:gd name="textAreaRight" fmla="*/ 625320 w 624960"/>
                    <a:gd name="textAreaTop" fmla="*/ 0 h 153360"/>
                    <a:gd name="textAreaBottom" fmla="*/ 153720 h 153360"/>
                  </a:gdLst>
                  <a:ahLst/>
                  <a:rect l="textAreaLeft" t="textAreaTop" r="textAreaRight" b="textAreaBottom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custGeom>
                  <a:avLst/>
                  <a:gdLst>
                    <a:gd name="textAreaLeft" fmla="*/ 0 w 580680"/>
                    <a:gd name="textAreaRight" fmla="*/ 581040 w 58068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custGeom>
                  <a:avLst/>
                  <a:gdLst>
                    <a:gd name="textAreaLeft" fmla="*/ 0 w 54360"/>
                    <a:gd name="textAreaRight" fmla="*/ 54720 w 54360"/>
                    <a:gd name="textAreaTop" fmla="*/ 0 h 38520"/>
                    <a:gd name="textAreaBottom" fmla="*/ 38880 h 38520"/>
                  </a:gdLst>
                  <a:ahLst/>
                  <a:rect l="textAreaLeft" t="textAreaTop" r="textAreaRight" b="textAreaBottom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custGeom>
                  <a:avLst/>
                  <a:gdLst>
                    <a:gd name="textAreaLeft" fmla="*/ 0 w 1330920"/>
                    <a:gd name="textAreaRight" fmla="*/ 1331280 w 1330920"/>
                    <a:gd name="textAreaTop" fmla="*/ 0 h 571320"/>
                    <a:gd name="textAreaBottom" fmla="*/ 571680 h 571320"/>
                  </a:gdLst>
                  <a:ahLst/>
                  <a:rect l="textAreaLeft" t="textAreaTop" r="textAreaRight" b="textAreaBottom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custGeom>
                  <a:avLst/>
                  <a:gdLst>
                    <a:gd name="textAreaLeft" fmla="*/ 0 w 60840"/>
                    <a:gd name="textAreaRight" fmla="*/ 61200 w 60840"/>
                    <a:gd name="textAreaTop" fmla="*/ 0 h 205560"/>
                    <a:gd name="textAreaBottom" fmla="*/ 205920 h 205560"/>
                  </a:gdLst>
                  <a:ahLst/>
                  <a:rect l="textAreaLeft" t="textAreaTop" r="textAreaRight" b="textAreaBottom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custGeom>
                  <a:avLst/>
                  <a:gdLst>
                    <a:gd name="textAreaLeft" fmla="*/ 0 w 179280"/>
                    <a:gd name="textAreaRight" fmla="*/ 179640 w 179280"/>
                    <a:gd name="textAreaTop" fmla="*/ 0 h 128880"/>
                    <a:gd name="textAreaBottom" fmla="*/ 129240 h 128880"/>
                  </a:gdLst>
                  <a:ahLst/>
                  <a:rect l="textAreaLeft" t="textAreaTop" r="textAreaRight" b="textAreaBottom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custGeom>
                  <a:avLst/>
                  <a:gdLst>
                    <a:gd name="textAreaLeft" fmla="*/ 0 w 243360"/>
                    <a:gd name="textAreaRight" fmla="*/ 243720 w 243360"/>
                    <a:gd name="textAreaTop" fmla="*/ 0 h 270000"/>
                    <a:gd name="textAreaBottom" fmla="*/ 270360 h 270000"/>
                  </a:gdLst>
                  <a:ahLst/>
                  <a:rect l="textAreaLeft" t="textAreaTop" r="textAreaRight" b="textAreaBottom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15480"/>
                    <a:gd name="textAreaBottom" fmla="*/ 15840 h 15480"/>
                  </a:gdLst>
                  <a:ahLst/>
                  <a:rect l="textAreaLeft" t="textAreaTop" r="textAreaRight" b="textAreaBottom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custGeom>
                  <a:avLst/>
                  <a:gdLst>
                    <a:gd name="textAreaLeft" fmla="*/ 0 w 1058760"/>
                    <a:gd name="textAreaRight" fmla="*/ 1059120 w 1058760"/>
                    <a:gd name="textAreaTop" fmla="*/ 0 h 709200"/>
                    <a:gd name="textAreaBottom" fmla="*/ 709560 h 709200"/>
                  </a:gdLst>
                  <a:ahLst/>
                  <a:rect l="textAreaLeft" t="textAreaTop" r="textAreaRight" b="textAreaBottom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custGeom>
                  <a:avLst/>
                  <a:gdLst>
                    <a:gd name="textAreaLeft" fmla="*/ 0 w 58680"/>
                    <a:gd name="textAreaRight" fmla="*/ 59040 w 58680"/>
                    <a:gd name="textAreaTop" fmla="*/ 0 h 108720"/>
                    <a:gd name="textAreaBottom" fmla="*/ 109080 h 108720"/>
                  </a:gdLst>
                  <a:ahLst/>
                  <a:rect l="textAreaLeft" t="textAreaTop" r="textAreaRight" b="textAreaBottom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custGeom>
                  <a:avLst/>
                  <a:gdLst>
                    <a:gd name="textAreaLeft" fmla="*/ 0 w 54360"/>
                    <a:gd name="textAreaRight" fmla="*/ 54720 w 54360"/>
                    <a:gd name="textAreaTop" fmla="*/ 0 h 90360"/>
                    <a:gd name="textAreaBottom" fmla="*/ 90720 h 90360"/>
                  </a:gdLst>
                  <a:ahLst/>
                  <a:rect l="textAreaLeft" t="textAreaTop" r="textAreaRight" b="textAreaBottom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custGeom>
                  <a:avLst/>
                  <a:gdLst>
                    <a:gd name="textAreaLeft" fmla="*/ 0 w 1321920"/>
                    <a:gd name="textAreaRight" fmla="*/ 1322280 w 1321920"/>
                    <a:gd name="textAreaTop" fmla="*/ 0 h 1329840"/>
                    <a:gd name="textAreaBottom" fmla="*/ 1330200 h 1329840"/>
                  </a:gdLst>
                  <a:ahLst/>
                  <a:rect l="textAreaLeft" t="textAreaTop" r="textAreaRight" b="textAreaBottom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custGeom>
                  <a:avLst/>
                  <a:gdLst>
                    <a:gd name="textAreaLeft" fmla="*/ 0 w 497160"/>
                    <a:gd name="textAreaRight" fmla="*/ 497520 w 497160"/>
                    <a:gd name="textAreaTop" fmla="*/ 0 h 829080"/>
                    <a:gd name="textAreaBottom" fmla="*/ 829440 h 829080"/>
                  </a:gdLst>
                  <a:ahLst/>
                  <a:rect l="textAreaLeft" t="textAreaTop" r="textAreaRight" b="textAreaBottom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custGeom>
                  <a:avLst/>
                  <a:gdLst>
                    <a:gd name="textAreaLeft" fmla="*/ 0 w 20520"/>
                    <a:gd name="textAreaRight" fmla="*/ 20880 w 20520"/>
                    <a:gd name="textAreaTop" fmla="*/ 0 h 44280"/>
                    <a:gd name="textAreaBottom" fmla="*/ 44640 h 44280"/>
                  </a:gdLst>
                  <a:ahLst/>
                  <a:rect l="textAreaLeft" t="textAreaTop" r="textAreaRight" b="textAreaBottom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custGeom>
                  <a:avLst/>
                  <a:gdLst>
                    <a:gd name="textAreaLeft" fmla="*/ 0 w 27360"/>
                    <a:gd name="textAreaRight" fmla="*/ 27720 w 27360"/>
                    <a:gd name="textAreaTop" fmla="*/ 0 h 25920"/>
                    <a:gd name="textAreaBottom" fmla="*/ 26280 h 25920"/>
                  </a:gdLst>
                  <a:ahLst/>
                  <a:rect l="textAreaLeft" t="textAreaTop" r="textAreaRight" b="textAreaBottom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custGeom>
                  <a:avLst/>
                  <a:gdLst>
                    <a:gd name="textAreaLeft" fmla="*/ 0 w 75240"/>
                    <a:gd name="textAreaRight" fmla="*/ 75600 w 752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custGeom>
                  <a:avLst/>
                  <a:gdLst>
                    <a:gd name="textAreaLeft" fmla="*/ 0 w 899640"/>
                    <a:gd name="textAreaRight" fmla="*/ 900000 w 899640"/>
                    <a:gd name="textAreaTop" fmla="*/ 0 h 874080"/>
                    <a:gd name="textAreaBottom" fmla="*/ 874440 h 874080"/>
                  </a:gdLst>
                  <a:ahLst/>
                  <a:rect l="textAreaLeft" t="textAreaTop" r="textAreaRight" b="textAreaBottom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custGeom>
                  <a:avLst/>
                  <a:gdLst>
                    <a:gd name="textAreaLeft" fmla="*/ 0 w 1805040"/>
                    <a:gd name="textAreaRight" fmla="*/ 1805400 w 1805040"/>
                    <a:gd name="textAreaTop" fmla="*/ 0 h 356400"/>
                    <a:gd name="textAreaBottom" fmla="*/ 356760 h 356400"/>
                  </a:gdLst>
                  <a:ahLst/>
                  <a:rect l="textAreaLeft" t="textAreaTop" r="textAreaRight" b="textAreaBottom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custGeom>
                  <a:avLst/>
                  <a:gdLst>
                    <a:gd name="textAreaLeft" fmla="*/ 0 w 38880"/>
                    <a:gd name="textAreaRight" fmla="*/ 39240 w 38880"/>
                    <a:gd name="textAreaTop" fmla="*/ 0 h 38520"/>
                    <a:gd name="textAreaBottom" fmla="*/ 38880 h 38520"/>
                  </a:gdLst>
                  <a:ahLst/>
                  <a:rect l="textAreaLeft" t="textAreaTop" r="textAreaRight" b="textAreaBottom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custGeom>
                  <a:avLst/>
                  <a:gdLst>
                    <a:gd name="textAreaLeft" fmla="*/ 0 w 58680"/>
                    <a:gd name="textAreaRight" fmla="*/ 59040 w 5868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custGeom>
                  <a:avLst/>
                  <a:gdLst>
                    <a:gd name="textAreaLeft" fmla="*/ 0 w 97560"/>
                    <a:gd name="textAreaRight" fmla="*/ 97920 w 97560"/>
                    <a:gd name="textAreaTop" fmla="*/ 0 h 21240"/>
                    <a:gd name="textAreaBottom" fmla="*/ 21600 h 21240"/>
                  </a:gdLst>
                  <a:ahLst/>
                  <a:rect l="textAreaLeft" t="textAreaTop" r="textAreaRight" b="textAreaBottom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custGeom>
                  <a:avLst/>
                  <a:gdLst>
                    <a:gd name="textAreaLeft" fmla="*/ 0 w 54360"/>
                    <a:gd name="textAreaRight" fmla="*/ 54720 w 54360"/>
                    <a:gd name="textAreaTop" fmla="*/ 0 h 56880"/>
                    <a:gd name="textAreaBottom" fmla="*/ 57240 h 56880"/>
                  </a:gdLst>
                  <a:ahLst/>
                  <a:rect l="textAreaLeft" t="textAreaTop" r="textAreaRight" b="textAreaBottom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custGeom>
                  <a:avLst/>
                  <a:gdLst>
                    <a:gd name="textAreaLeft" fmla="*/ 0 w 42840"/>
                    <a:gd name="textAreaRight" fmla="*/ 43200 w 428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56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268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Picture 91" descr="earth"/>
            <p:cNvPicPr/>
            <p:nvPr/>
          </p:nvPicPr>
          <p:blipFill>
            <a:blip r:embed="rId2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06FC8-A618-4953-A51B-813539C9EBE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133360" y="380520"/>
            <a:ext cx="655308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LASEK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和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Epi-LASIK</a:t>
            </a:r>
            <a:r>
              <a:rPr b="1" i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术后角膜接触镜的细菌学研究</a:t>
            </a:r>
            <a:br>
              <a:rPr sz="3700"/>
            </a:b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Microbiologic Study of Soft Contact Lenses after Lasek and Epi-Lasik</a:t>
            </a:r>
            <a:endParaRPr b="0" i="1" lang="en-US" sz="2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3" name="Rectangle 3"/>
          <p:cNvSpPr/>
          <p:nvPr/>
        </p:nvSpPr>
        <p:spPr>
          <a:xfrm>
            <a:off x="2209680" y="3352680"/>
            <a:ext cx="6477120" cy="21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龙琴 王澎 李莹 张丰菊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中国医学科学院 北京协和医院眼科 细菌室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in Long, Peng Wang,Ying L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ngju Zhang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artment of Ophthalmology,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king Union Medical College Hospit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MC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inese Academy of Medical Sciences.Beijing , China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2"/>
          <p:cNvSpPr/>
          <p:nvPr/>
        </p:nvSpPr>
        <p:spPr>
          <a:xfrm>
            <a:off x="1828800" y="76320"/>
            <a:ext cx="5334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Epi-LASIK</a:t>
            </a:r>
            <a:r>
              <a:rPr b="1" i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组结果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304920" y="1143000"/>
          <a:ext cx="8458200" cy="4770360"/>
        </p:xfrm>
        <a:graphic>
          <a:graphicData uri="http://schemas.openxmlformats.org/drawingml/2006/table">
            <a:tbl>
              <a:tblPr/>
              <a:tblGrid>
                <a:gridCol w="523800"/>
                <a:gridCol w="1571760"/>
                <a:gridCol w="636264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性别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/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年龄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菌种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/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眼别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/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部位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6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1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女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/28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凝固酶阴性葡萄球菌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/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双眼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/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内侧面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男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/35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凝固酶阴性葡萄球菌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/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右眼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/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边缘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6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3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女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/36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凝固酶阴性葡萄球菌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/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左眼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/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外侧面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男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/29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微球菌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/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右眼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/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内侧面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凝固酶阴性葡萄球菌合并棒状杆菌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/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左眼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/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边缘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6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5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男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/21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嗜水气单胞菌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/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左眼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/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边缘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6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6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男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/3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凝固酶阴性葡萄球菌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/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左眼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/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内侧面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5"/>
          <p:cNvSpPr/>
          <p:nvPr/>
        </p:nvSpPr>
        <p:spPr>
          <a:xfrm>
            <a:off x="2057400" y="0"/>
            <a:ext cx="5334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药物敏感试验</a:t>
            </a:r>
            <a:r>
              <a:rPr b="1" i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结果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246240" y="930240"/>
          <a:ext cx="8516880" cy="5402160"/>
        </p:xfrm>
        <a:graphic>
          <a:graphicData uri="http://schemas.openxmlformats.org/drawingml/2006/table">
            <a:tbl>
              <a:tblPr/>
              <a:tblGrid>
                <a:gridCol w="1506240"/>
                <a:gridCol w="1600200"/>
                <a:gridCol w="1447920"/>
                <a:gridCol w="1295280"/>
                <a:gridCol w="1436760"/>
                <a:gridCol w="123048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菌种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凝固酶阴性葡萄球菌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金黄色葡萄球菌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棒状杆菌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嗜水气单胞菌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不动杆菌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6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妥布霉素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++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++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++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++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+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6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阿米卡星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+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+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++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+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++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6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左氧氟沙星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++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++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+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++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+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氨苄西林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舒巴坦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++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++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-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R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-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6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万古霉素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++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++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-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-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-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6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青霉素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R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R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+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-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+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6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头孢唑啉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++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++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+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++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R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504960" y="-360"/>
            <a:ext cx="198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结   果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双眼细菌生长（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人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部位：角膜接触镜的内侧面（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片）、外侧面（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片）、边缘（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9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片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凝固酶阴性葡萄球菌多见（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2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片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/20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片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对常规使用的广谱抗菌素敏感（妥布霉素、左氧氟沙星），无临床炎症表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AutoShape 13"/>
          <p:cNvSpPr/>
          <p:nvPr/>
        </p:nvSpPr>
        <p:spPr>
          <a:xfrm>
            <a:off x="762120" y="3352680"/>
            <a:ext cx="6400800" cy="1828800"/>
          </a:xfrm>
          <a:prstGeom prst="roundRect">
            <a:avLst>
              <a:gd name="adj" fmla="val 16667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AutoShape 12"/>
          <p:cNvSpPr/>
          <p:nvPr/>
        </p:nvSpPr>
        <p:spPr>
          <a:xfrm>
            <a:off x="762120" y="1143000"/>
            <a:ext cx="6400800" cy="1828800"/>
          </a:xfrm>
          <a:prstGeom prst="roundRect">
            <a:avLst>
              <a:gd name="adj" fmla="val 16667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990360" y="1143000"/>
            <a:ext cx="6629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角膜接触镜和角膜上皮瓣之间腔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角膜上皮瓣和角膜基质之间腔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绷带式角膜接触镜的不间断使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AutoShape 5"/>
          <p:cNvSpPr/>
          <p:nvPr/>
        </p:nvSpPr>
        <p:spPr>
          <a:xfrm flipH="1">
            <a:off x="7466760" y="1752480"/>
            <a:ext cx="1143000" cy="3505320"/>
          </a:xfrm>
          <a:custGeom>
            <a:avLst/>
            <a:gdLst>
              <a:gd name="textAreaLeft" fmla="*/ 153000 w 1143000"/>
              <a:gd name="textAreaRight" fmla="*/ 990000 w 1143000"/>
              <a:gd name="textAreaTop" fmla="*/ 613440 h 3505320"/>
              <a:gd name="textAreaBottom" fmla="*/ 254160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title"/>
          </p:nvPr>
        </p:nvSpPr>
        <p:spPr>
          <a:xfrm>
            <a:off x="2514600" y="-3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讨  论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—</a:t>
            </a:r>
            <a:r>
              <a:rPr b="1" i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感染原因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1" name="Rectangle 8"/>
          <p:cNvSpPr/>
          <p:nvPr/>
        </p:nvSpPr>
        <p:spPr>
          <a:xfrm>
            <a:off x="990720" y="3276720"/>
            <a:ext cx="7772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泪液流少，阻止抗炎物质进入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抗菌药物渗透困难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角膜接触镜产生低氧高碳酸环境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Rectangle 10"/>
          <p:cNvSpPr/>
          <p:nvPr/>
        </p:nvSpPr>
        <p:spPr>
          <a:xfrm>
            <a:off x="2819520" y="5562720"/>
            <a:ext cx="5943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微生物清除困难、细菌集落生长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AutoShape 14"/>
          <p:cNvSpPr/>
          <p:nvPr/>
        </p:nvSpPr>
        <p:spPr>
          <a:xfrm>
            <a:off x="533520" y="5791320"/>
            <a:ext cx="1981080" cy="380880"/>
          </a:xfrm>
          <a:prstGeom prst="rightArrow">
            <a:avLst>
              <a:gd name="adj1" fmla="val 50000"/>
              <a:gd name="adj2" fmla="val 130033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733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讨  论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--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文献回顾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6933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PRK—18.2%(Detorakis ET,1998); 8.6 %(Dantas PE,2000) ; 28.7% (Siganos DS,200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LASEK---26.5%(Hondur A,2008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本研究：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LASEK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：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30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Epi-LASIK:20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4"/>
          <p:cNvSpPr/>
          <p:nvPr/>
        </p:nvSpPr>
        <p:spPr>
          <a:xfrm>
            <a:off x="1371600" y="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讨  论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—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角膜接触镜菌种回顾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380880" y="1371600"/>
          <a:ext cx="8382240" cy="4427640"/>
        </p:xfrm>
        <a:graphic>
          <a:graphicData uri="http://schemas.openxmlformats.org/drawingml/2006/table">
            <a:tbl>
              <a:tblPr/>
              <a:tblGrid>
                <a:gridCol w="3886200"/>
                <a:gridCol w="4496040"/>
              </a:tblGrid>
              <a:tr h="88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PRK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LASEK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54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Times New Roman"/>
                        </a:rPr>
                        <a:t>表皮葡萄球菌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Times New Roman"/>
                        </a:rPr>
                        <a:t>（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Times New Roman"/>
                        </a:rPr>
                        <a:t>1998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Times New Roman"/>
                        </a:rPr>
                        <a:t>年）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Times New Roman"/>
                        </a:rPr>
                        <a:t>肺炎克雷伯杆菌（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Times New Roman"/>
                        </a:rPr>
                        <a:t>2000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Times New Roman"/>
                        </a:rPr>
                        <a:t>年）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Times New Roman"/>
                        </a:rPr>
                        <a:t>微球菌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Times New Roman"/>
                        </a:rPr>
                        <a:t>棒状杆菌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Times New Roman"/>
                        </a:rPr>
                        <a:t>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</a:rPr>
                        <a:t>凝固酶阴性葡萄球菌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（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2008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年）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嗜麦芽窄食单胞菌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</a:rPr>
                        <a:t>嗜水气单胞菌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</a:rPr>
                        <a:t>不动杆菌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Times New Roman"/>
                        </a:rPr>
                        <a:t>微球菌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8" name=""/>
          <p:cNvGraphicFramePr/>
          <p:nvPr/>
        </p:nvGraphicFramePr>
        <p:xfrm>
          <a:off x="380880" y="1143000"/>
          <a:ext cx="8382240" cy="4419720"/>
        </p:xfrm>
        <a:graphic>
          <a:graphicData uri="http://schemas.openxmlformats.org/drawingml/2006/table">
            <a:tbl>
              <a:tblPr/>
              <a:tblGrid>
                <a:gridCol w="3810240"/>
                <a:gridCol w="2674800"/>
                <a:gridCol w="1897200"/>
              </a:tblGrid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PRK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LASEK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Epi-LASIK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72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肺炎链球菌（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2007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年）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3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金葡菌（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2007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年） 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3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耐甲氧苯青霉素金黄色葡萄球菌（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2006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年）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3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绿脓杆菌 （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1997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年）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3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表皮葡萄球菌 （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1996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年）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金葡菌（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2008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年）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3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龟分枝杆菌（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2006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）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耐甲氧苯青霉素金黄色葡萄球菌（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2008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年）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379" name="Rectangle 29"/>
          <p:cNvSpPr/>
          <p:nvPr/>
        </p:nvSpPr>
        <p:spPr>
          <a:xfrm>
            <a:off x="1600200" y="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讨  论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—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感染性角膜炎菌种回顾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285640" y="-360"/>
            <a:ext cx="426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讨  论</a:t>
            </a:r>
            <a:r>
              <a:rPr b="1" i="1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-</a:t>
            </a:r>
            <a:r>
              <a:rPr b="1" i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菌群分析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凝固酶阴性葡萄球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2" name="Picture 30" descr="凝固酶阴性葡萄球菌"/>
          <p:cNvPicPr/>
          <p:nvPr/>
        </p:nvPicPr>
        <p:blipFill>
          <a:blip r:embed="rId2"/>
          <a:stretch/>
        </p:blipFill>
        <p:spPr>
          <a:xfrm>
            <a:off x="914400" y="2516040"/>
            <a:ext cx="3732120" cy="3249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383" name="Rectangle 31"/>
          <p:cNvSpPr/>
          <p:nvPr/>
        </p:nvSpPr>
        <p:spPr>
          <a:xfrm>
            <a:off x="4800600" y="2286000"/>
            <a:ext cx="4114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革兰氏染色阳性球菌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致病性：免疫力低下时致病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正常结膜囊中最多见的定植细菌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近年来医源性感染的常见病原菌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285640" y="-360"/>
            <a:ext cx="426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讨  论</a:t>
            </a:r>
            <a:r>
              <a:rPr b="1" i="1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-</a:t>
            </a:r>
            <a:r>
              <a:rPr b="1" i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菌群分析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41911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金黄色葡萄球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6" name="Picture 5" descr="金葡菌"/>
          <p:cNvPicPr/>
          <p:nvPr/>
        </p:nvPicPr>
        <p:blipFill>
          <a:blip r:embed="rId2"/>
          <a:stretch/>
        </p:blipFill>
        <p:spPr>
          <a:xfrm>
            <a:off x="533520" y="2133720"/>
            <a:ext cx="3732120" cy="3430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87" name="Rectangle 7"/>
          <p:cNvSpPr/>
          <p:nvPr/>
        </p:nvSpPr>
        <p:spPr>
          <a:xfrm>
            <a:off x="4495680" y="1981080"/>
            <a:ext cx="464832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革兰氏染色阳性球菌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致病性：产生多种毒素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血浆凝固酶阳性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正常结膜囊中的定植细菌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无处不在，导致化脓性感染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2285640" y="-360"/>
            <a:ext cx="426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讨  论</a:t>
            </a:r>
            <a:r>
              <a:rPr b="1" i="1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-</a:t>
            </a:r>
            <a:r>
              <a:rPr b="1" i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菌群分析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44197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棒状杆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4572000" y="2514600"/>
            <a:ext cx="41148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革兰氏染色阳性杆菌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致病性：大多为非致病菌或条件致病菌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正常结膜囊中最常见的定植细菌之一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1" name="Picture 7" descr="棒杆菌"/>
          <p:cNvPicPr/>
          <p:nvPr/>
        </p:nvPicPr>
        <p:blipFill>
          <a:blip r:embed="rId5"/>
          <a:stretch/>
        </p:blipFill>
        <p:spPr>
          <a:xfrm>
            <a:off x="685800" y="2362320"/>
            <a:ext cx="3733920" cy="337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600200" y="-3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615"/>
                </a:solidFill>
                <a:latin typeface="Times New Roman"/>
                <a:ea typeface="华文行楷"/>
              </a:rPr>
              <a:t>准分子激光角膜屈光手术的种类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5564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>
              <a:lnSpc>
                <a:spcPct val="16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表层切削：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PRK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LASEK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Epi-LASI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40120" indent="-240120">
              <a:lnSpc>
                <a:spcPct val="16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板层切削：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LASIK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SB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6" name="Picture 5" descr="CorneaCU"/>
          <p:cNvPicPr/>
          <p:nvPr/>
        </p:nvPicPr>
        <p:blipFill>
          <a:blip r:embed="rId3"/>
          <a:stretch/>
        </p:blipFill>
        <p:spPr>
          <a:xfrm>
            <a:off x="5867280" y="3276720"/>
            <a:ext cx="2971800" cy="2835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37" name="AutoShape 6"/>
          <p:cNvSpPr/>
          <p:nvPr/>
        </p:nvSpPr>
        <p:spPr>
          <a:xfrm>
            <a:off x="4419720" y="4267080"/>
            <a:ext cx="1447560" cy="76320"/>
          </a:xfrm>
          <a:prstGeom prst="rightArrow">
            <a:avLst>
              <a:gd name="adj1" fmla="val 50000"/>
              <a:gd name="adj2" fmla="val 474175"/>
            </a:avLst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Text Box 7"/>
          <p:cNvSpPr/>
          <p:nvPr/>
        </p:nvSpPr>
        <p:spPr>
          <a:xfrm>
            <a:off x="685800" y="4038480"/>
            <a:ext cx="3962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楷体_GB2312"/>
              </a:rPr>
              <a:t>PRK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楷体_GB2312"/>
              </a:rPr>
              <a:t>LASEK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楷体_GB2312"/>
              </a:rPr>
              <a:t>Epi-LASIK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AutoShape 8"/>
          <p:cNvSpPr/>
          <p:nvPr/>
        </p:nvSpPr>
        <p:spPr>
          <a:xfrm>
            <a:off x="4419720" y="4572000"/>
            <a:ext cx="1447560" cy="76320"/>
          </a:xfrm>
          <a:prstGeom prst="rightArrow">
            <a:avLst>
              <a:gd name="adj1" fmla="val 50000"/>
              <a:gd name="adj2" fmla="val 474175"/>
            </a:avLst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Text Box 9"/>
          <p:cNvSpPr/>
          <p:nvPr/>
        </p:nvSpPr>
        <p:spPr>
          <a:xfrm>
            <a:off x="3352680" y="441972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_GB2312"/>
              </a:rPr>
              <a:t>SBK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AutoShape 10"/>
          <p:cNvSpPr/>
          <p:nvPr/>
        </p:nvSpPr>
        <p:spPr>
          <a:xfrm>
            <a:off x="4419720" y="4952880"/>
            <a:ext cx="1447560" cy="76320"/>
          </a:xfrm>
          <a:prstGeom prst="rightArrow">
            <a:avLst>
              <a:gd name="adj1" fmla="val 50000"/>
              <a:gd name="adj2" fmla="val 474175"/>
            </a:avLst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Text Box 11"/>
          <p:cNvSpPr/>
          <p:nvPr/>
        </p:nvSpPr>
        <p:spPr>
          <a:xfrm>
            <a:off x="3276720" y="48006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_GB2312"/>
              </a:rPr>
              <a:t>LASIK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285640" y="-360"/>
            <a:ext cx="426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讨  论</a:t>
            </a:r>
            <a:r>
              <a:rPr b="1" i="1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-</a:t>
            </a:r>
            <a:r>
              <a:rPr b="1" i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菌群分析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不动杆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Rectangle 5"/>
          <p:cNvSpPr/>
          <p:nvPr/>
        </p:nvSpPr>
        <p:spPr>
          <a:xfrm>
            <a:off x="4267080" y="2286000"/>
            <a:ext cx="4876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革兰氏染色阴性杆菌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致病性：免疫力低下时致病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正常皮肤定植细菌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广泛存在水、土壤中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黏附能力强，医用材料污染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5" name="Picture 6" descr="鲍曼不动杆菌"/>
          <p:cNvPicPr/>
          <p:nvPr/>
        </p:nvPicPr>
        <p:blipFill>
          <a:blip r:embed="rId7"/>
          <a:stretch/>
        </p:blipFill>
        <p:spPr>
          <a:xfrm>
            <a:off x="609480" y="2514600"/>
            <a:ext cx="3503880" cy="3300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285640" y="-360"/>
            <a:ext cx="426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讨  论</a:t>
            </a:r>
            <a:r>
              <a:rPr b="1" i="1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-</a:t>
            </a:r>
            <a:r>
              <a:rPr b="1" i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菌群分析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44197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微球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Rectangle 5"/>
          <p:cNvSpPr/>
          <p:nvPr/>
        </p:nvSpPr>
        <p:spPr>
          <a:xfrm>
            <a:off x="4648320" y="2590920"/>
            <a:ext cx="4114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革兰氏染色阳性球菌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致病性：非致病菌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正常皮肤定植细菌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多见于水和土壤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9" name="Picture 6" descr="微球菌-02"/>
          <p:cNvPicPr/>
          <p:nvPr/>
        </p:nvPicPr>
        <p:blipFill>
          <a:blip r:embed="rId6"/>
          <a:stretch/>
        </p:blipFill>
        <p:spPr>
          <a:xfrm>
            <a:off x="609480" y="2514600"/>
            <a:ext cx="3657600" cy="3429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285640" y="-360"/>
            <a:ext cx="426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讨  论</a:t>
            </a:r>
            <a:r>
              <a:rPr b="1" i="1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-</a:t>
            </a:r>
            <a:r>
              <a:rPr b="1" i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菌群分析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4419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嗜水气单胞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4572000" y="2209680"/>
            <a:ext cx="4114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革兰氏染色阴性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致病性：条件致病菌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易在污染的水中繁殖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3" name="Picture 6" descr="嗜水气单胞-01"/>
          <p:cNvPicPr/>
          <p:nvPr/>
        </p:nvPicPr>
        <p:blipFill>
          <a:blip r:embed="rId5"/>
          <a:stretch/>
        </p:blipFill>
        <p:spPr>
          <a:xfrm>
            <a:off x="685800" y="2211480"/>
            <a:ext cx="3506760" cy="3124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580920" y="-360"/>
            <a:ext cx="221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结  论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990720" y="1371600"/>
            <a:ext cx="739116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结膜囊定植菌群，共生性，条件致病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术前用药：广谱抗菌药物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术中：保护角膜上皮瓣的活性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术后：避免角膜接触镜污染，使用抗生素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糖皮质激素使用：减轻炎症反应，局部水肿，在抗菌药物使用时可以联合使用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2"/>
          <p:cNvSpPr/>
          <p:nvPr/>
        </p:nvSpPr>
        <p:spPr>
          <a:xfrm>
            <a:off x="992160" y="1371600"/>
            <a:ext cx="5430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ffcc99"/>
                </a:solidFill>
                <a:latin typeface="Times New Roman"/>
                <a:ea typeface="宋体"/>
              </a:rPr>
              <a:t>Thank You</a:t>
            </a:r>
            <a:endParaRPr b="1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7" name="Picture 4" descr=""/>
          <p:cNvPicPr/>
          <p:nvPr/>
        </p:nvPicPr>
        <p:blipFill>
          <a:blip r:embed="rId1"/>
          <a:stretch/>
        </p:blipFill>
        <p:spPr>
          <a:xfrm>
            <a:off x="4267080" y="3429000"/>
            <a:ext cx="3810240" cy="2784600"/>
          </a:xfrm>
          <a:prstGeom prst="rect">
            <a:avLst/>
          </a:prstGeom>
          <a:ln cap="sq" w="19080">
            <a:solidFill>
              <a:srgbClr val="ccb37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AutoShape 10"/>
          <p:cNvSpPr/>
          <p:nvPr/>
        </p:nvSpPr>
        <p:spPr>
          <a:xfrm>
            <a:off x="2209680" y="5105520"/>
            <a:ext cx="3886200" cy="9903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685800" y="16761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角膜上皮完整性破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角膜上皮愈合期间死亡角膜上皮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绷带式角膜接触镜的不间断使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Rectangle 6"/>
          <p:cNvSpPr/>
          <p:nvPr/>
        </p:nvSpPr>
        <p:spPr>
          <a:xfrm>
            <a:off x="1143000" y="-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LASE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Epi-LASIK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引发角膜感染的风险</a:t>
            </a:r>
            <a:r>
              <a:rPr b="1" i="1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AutoShape 8"/>
          <p:cNvSpPr/>
          <p:nvPr/>
        </p:nvSpPr>
        <p:spPr>
          <a:xfrm flipH="1">
            <a:off x="7390800" y="2590920"/>
            <a:ext cx="1143000" cy="3504960"/>
          </a:xfrm>
          <a:custGeom>
            <a:avLst/>
            <a:gdLst>
              <a:gd name="textAreaLeft" fmla="*/ 153000 w 1143000"/>
              <a:gd name="textAreaRight" fmla="*/ 990000 w 1143000"/>
              <a:gd name="textAreaTop" fmla="*/ 613080 h 3504960"/>
              <a:gd name="textAreaBottom" fmla="*/ 2541240 h 3504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Text Box 9"/>
          <p:cNvSpPr/>
          <p:nvPr/>
        </p:nvSpPr>
        <p:spPr>
          <a:xfrm>
            <a:off x="2362320" y="52578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角膜感染的微环境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2"/>
          <p:cNvSpPr/>
          <p:nvPr/>
        </p:nvSpPr>
        <p:spPr>
          <a:xfrm>
            <a:off x="2819520" y="22860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目  的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Text Box 3"/>
          <p:cNvSpPr/>
          <p:nvPr/>
        </p:nvSpPr>
        <p:spPr>
          <a:xfrm>
            <a:off x="685800" y="1600200"/>
            <a:ext cx="800100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观察酒精法准分子激光上皮瓣下角膜磨镶术（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LASEK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）和机械法准分子激光上皮瓣下角膜磨镶术（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Epi-LASIK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）所佩戴角膜接触镜的细菌学检测及其与临床的相关性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653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资料和方法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连续收集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LASEK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和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Epi-LASIK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患者各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0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屈光度稳定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年以上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排除圆锥角膜、系统性干燥症、瘢痕体质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排除眼部炎症：睑缘炎、睑板腺炎、急性结膜炎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17840" y="-76680"/>
            <a:ext cx="653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资料和方法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术前用药：左氧氟沙星，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次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日，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3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术前冲洗：平衡盐溶液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+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阿米卡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3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LASEK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：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0%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酒精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秒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3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Epi-LASIK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：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Moria Epi-LASIK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角膜上皮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3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术后冲洗：平衡盐溶液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+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地塞米松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+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阿米卡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3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绷带式角膜接触镜：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3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术后：妥布霉素地塞米松，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次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17840" y="-76680"/>
            <a:ext cx="653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资料和方法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样本（角膜接触镜）采集时间：术后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方法：在消毒室内用无菌镊取下角膜接触镜，剪成两半，分正反面立即置入巧克力培养皿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7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度孵育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阳性判断：第一菌区（样本所在部位）出现菌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阳性菌落分离、鉴定、药物敏感试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828440" y="76320"/>
            <a:ext cx="53341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结  果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年龄：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9-36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共收集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80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片角膜接触镜：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LASEK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术后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0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片，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Epi-LASIK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术后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0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片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检出细菌：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LASEK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组：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2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例阳性（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人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  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Epi-LASIK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组：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例阳性（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人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6"/>
          <p:cNvSpPr/>
          <p:nvPr/>
        </p:nvSpPr>
        <p:spPr>
          <a:xfrm>
            <a:off x="1828800" y="76320"/>
            <a:ext cx="5334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LASEK</a:t>
            </a:r>
            <a:r>
              <a:rPr b="1" i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组结果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04920" y="990720"/>
          <a:ext cx="8458200" cy="5354640"/>
        </p:xfrm>
        <a:graphic>
          <a:graphicData uri="http://schemas.openxmlformats.org/drawingml/2006/table">
            <a:tbl>
              <a:tblPr/>
              <a:tblGrid>
                <a:gridCol w="523800"/>
                <a:gridCol w="1571760"/>
                <a:gridCol w="63626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性别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/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年龄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菌种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/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眼别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/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部位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75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1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男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/2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凝固酶阴性葡萄球菌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/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右眼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/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边缘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棒状杆菌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/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左眼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/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外侧面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男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/3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凝固酶阴性葡萄球菌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/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双眼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/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边缘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5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3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女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/28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凝固酶阴性葡萄球菌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/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右眼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/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外侧面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微球菌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/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左眼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/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外侧面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5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男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/29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凝固酶阴性葡萄球菌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/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右眼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/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内侧面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微球菌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/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左眼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/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外侧面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5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5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女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/37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微球菌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/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右眼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/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边缘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凝固酶阴性葡萄球菌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/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左眼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/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内侧面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5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6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男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/2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不动杆菌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/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右眼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/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外侧面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凝固酶阴性葡萄球菌合并棒状杆菌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/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左眼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/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边缘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5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7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女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/25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凝固酶阴性葡萄球菌合并苯唑西林敏感的金黄色葡萄球菌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/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左眼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/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边缘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ao Kai</cp:lastModifiedBy>
  <dcterms:modified xsi:type="dcterms:W3CDTF">2010-07-23T16:42:57Z</dcterms:modified>
  <cp:revision>221</cp:revision>
  <dc:subject/>
  <dc:title>PowerPoint Presentation</dc:title>
</cp:coreProperties>
</file>