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8.gif" ContentType="image/gif"/>
  <Override PartName="/ppt/media/image9.wmf" ContentType="image/x-wmf"/>
  <Override PartName="/ppt/media/image10.jpeg" ContentType="image/jpeg"/>
  <Override PartName="/ppt/media/image11.jpeg" ContentType="image/jpe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65C4-C696-4BD4-9C7A-89AC8825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9048-75EC-4DFA-A714-F1D68C1B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4A8E-26B4-447F-BF07-8FA567D4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F0E6-0A1F-4C63-BE4B-3FFCBBE3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4D79-8353-465F-A85C-08A0A19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5377-A051-4A0E-BBAB-5AB92E4F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CD2F-8ACD-4498-94B5-5DE92322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FAB7-2AD9-46A6-B623-AFA225D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3CF5-FDD9-403D-9D7E-4B277B6A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46F3-6F98-435E-A83E-DBBEA4C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E698-B3F9-4164-9558-B4BA4A6E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146A-CCD4-4004-AF08-FF989A6E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9a6e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m_02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0965-466A-44DA-A29A-3B48E95FD0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9a6e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m_02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68600" y="2890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lnSpc>
                <a:spcPct val="105000"/>
              </a:lnSpc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362320"/>
            <a:ext cx="87631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飞秒激光的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SBK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技术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5181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重庆医科大学第二临床学院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杜之渝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版面配置區 3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頁尾版面配置區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飞秒激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BK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优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4495680" y="2819520"/>
            <a:ext cx="2514600" cy="3352680"/>
          </a:xfrm>
          <a:custGeom>
            <a:avLst/>
            <a:gdLst>
              <a:gd name="textAreaLeft" fmla="*/ 101160 w 2514600"/>
              <a:gd name="textAreaRight" fmla="*/ 2413440 w 2514600"/>
              <a:gd name="textAreaTop" fmla="*/ 101160 h 3352680"/>
              <a:gd name="textAreaBottom" fmla="*/ 3251520 h 3352680"/>
            </a:gdLst>
            <a:ahLst/>
            <a:rect l="textAreaLeft" t="textAreaTop" r="textAreaRight" b="textAreaBottom"/>
            <a:pathLst>
              <a:path w="21600" h="28798">
                <a:moveTo>
                  <a:pt x="2969" y="0"/>
                </a:moveTo>
                <a:arcTo wR="2969" hR="2969" stAng="16200000" swAng="-5400000"/>
                <a:lnTo>
                  <a:pt x="0" y="25829"/>
                </a:lnTo>
                <a:arcTo wR="2969" hR="2969" stAng="10800000" swAng="-5400000"/>
                <a:lnTo>
                  <a:pt x="18631" y="2879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1600200" y="2819520"/>
            <a:ext cx="2516040" cy="3354120"/>
          </a:xfrm>
          <a:custGeom>
            <a:avLst/>
            <a:gdLst>
              <a:gd name="textAreaLeft" fmla="*/ 101160 w 2516040"/>
              <a:gd name="textAreaRight" fmla="*/ 2414880 w 2516040"/>
              <a:gd name="textAreaTop" fmla="*/ 101160 h 3354120"/>
              <a:gd name="textAreaBottom" fmla="*/ 3252960 h 3354120"/>
            </a:gdLst>
            <a:ahLst/>
            <a:rect l="textAreaLeft" t="textAreaTop" r="textAreaRight" b="textAreaBottom"/>
            <a:pathLst>
              <a:path w="21600" h="28794">
                <a:moveTo>
                  <a:pt x="2969" y="0"/>
                </a:moveTo>
                <a:arcTo wR="2969" hR="2969" stAng="16200000" swAng="-5400000"/>
                <a:lnTo>
                  <a:pt x="0" y="25825"/>
                </a:lnTo>
                <a:arcTo wR="2969" hR="2969" stAng="10800000" swAng="-5400000"/>
                <a:lnTo>
                  <a:pt x="18631" y="287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1289520" y="1267200"/>
            <a:ext cx="5878440" cy="1275480"/>
            <a:chOff x="1289520" y="1267200"/>
            <a:chExt cx="5878440" cy="1275480"/>
          </a:xfrm>
        </p:grpSpPr>
        <p:sp>
          <p:nvSpPr>
            <p:cNvPr id="201" name="Rectangle 8"/>
            <p:cNvSpPr/>
            <p:nvPr/>
          </p:nvSpPr>
          <p:spPr>
            <a:xfrm rot="3418800">
              <a:off x="1479240" y="1477080"/>
              <a:ext cx="853200" cy="9158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02" name="Group 9"/>
            <p:cNvGrpSpPr/>
            <p:nvPr/>
          </p:nvGrpSpPr>
          <p:grpSpPr>
            <a:xfrm>
              <a:off x="2363760" y="1630800"/>
              <a:ext cx="850320" cy="121320"/>
              <a:chOff x="2363760" y="1630800"/>
              <a:chExt cx="850320" cy="121320"/>
            </a:xfrm>
          </p:grpSpPr>
          <p:sp>
            <p:nvSpPr>
              <p:cNvPr id="203" name="Oval 10"/>
              <p:cNvSpPr/>
              <p:nvPr/>
            </p:nvSpPr>
            <p:spPr>
              <a:xfrm>
                <a:off x="2363760" y="1630800"/>
                <a:ext cx="14328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4" name="Rectangle 11"/>
              <p:cNvSpPr/>
              <p:nvPr/>
            </p:nvSpPr>
            <p:spPr>
              <a:xfrm>
                <a:off x="2445120" y="1631520"/>
                <a:ext cx="704880" cy="12060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5" name="Oval 12"/>
              <p:cNvSpPr/>
              <p:nvPr/>
            </p:nvSpPr>
            <p:spPr>
              <a:xfrm>
                <a:off x="3085200" y="1632600"/>
                <a:ext cx="128880" cy="116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6" name="Oval 13"/>
              <p:cNvSpPr/>
              <p:nvPr/>
            </p:nvSpPr>
            <p:spPr>
              <a:xfrm>
                <a:off x="3153960" y="1670760"/>
                <a:ext cx="36000" cy="342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07" name="Rectangle 14"/>
            <p:cNvSpPr/>
            <p:nvPr/>
          </p:nvSpPr>
          <p:spPr>
            <a:xfrm rot="3418800">
              <a:off x="3049560" y="1416240"/>
              <a:ext cx="853200" cy="9158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3934440" y="1630800"/>
              <a:ext cx="850320" cy="121320"/>
              <a:chOff x="3934440" y="1630800"/>
              <a:chExt cx="850320" cy="121320"/>
            </a:xfrm>
          </p:grpSpPr>
          <p:sp>
            <p:nvSpPr>
              <p:cNvPr id="209" name="Oval 16"/>
              <p:cNvSpPr/>
              <p:nvPr/>
            </p:nvSpPr>
            <p:spPr>
              <a:xfrm>
                <a:off x="3934440" y="1630800"/>
                <a:ext cx="14328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0" name="Rectangle 17"/>
              <p:cNvSpPr/>
              <p:nvPr/>
            </p:nvSpPr>
            <p:spPr>
              <a:xfrm>
                <a:off x="4015800" y="1631520"/>
                <a:ext cx="704880" cy="12060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1" name="Oval 18"/>
              <p:cNvSpPr/>
              <p:nvPr/>
            </p:nvSpPr>
            <p:spPr>
              <a:xfrm>
                <a:off x="4655880" y="1632600"/>
                <a:ext cx="128880" cy="116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2" name="Oval 19"/>
              <p:cNvSpPr/>
              <p:nvPr/>
            </p:nvSpPr>
            <p:spPr>
              <a:xfrm>
                <a:off x="4724640" y="1670760"/>
                <a:ext cx="36000" cy="342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13" name="Rectangle 20"/>
            <p:cNvSpPr/>
            <p:nvPr/>
          </p:nvSpPr>
          <p:spPr>
            <a:xfrm rot="3418800">
              <a:off x="4554360" y="1416240"/>
              <a:ext cx="853200" cy="9162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4" name="Group 21"/>
            <p:cNvGrpSpPr/>
            <p:nvPr/>
          </p:nvGrpSpPr>
          <p:grpSpPr>
            <a:xfrm>
              <a:off x="5504760" y="1630800"/>
              <a:ext cx="1111680" cy="121320"/>
              <a:chOff x="5504760" y="1630800"/>
              <a:chExt cx="1111680" cy="121320"/>
            </a:xfrm>
          </p:grpSpPr>
          <p:sp>
            <p:nvSpPr>
              <p:cNvPr id="215" name="Oval 22"/>
              <p:cNvSpPr/>
              <p:nvPr/>
            </p:nvSpPr>
            <p:spPr>
              <a:xfrm>
                <a:off x="5504760" y="1630800"/>
                <a:ext cx="1872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Rectangle 23"/>
              <p:cNvSpPr/>
              <p:nvPr/>
            </p:nvSpPr>
            <p:spPr>
              <a:xfrm>
                <a:off x="5611320" y="1631520"/>
                <a:ext cx="921960" cy="12060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Oval 24"/>
              <p:cNvSpPr/>
              <p:nvPr/>
            </p:nvSpPr>
            <p:spPr>
              <a:xfrm>
                <a:off x="6447960" y="1632600"/>
                <a:ext cx="168480" cy="116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Oval 25"/>
              <p:cNvSpPr/>
              <p:nvPr/>
            </p:nvSpPr>
            <p:spPr>
              <a:xfrm>
                <a:off x="6537960" y="1670760"/>
                <a:ext cx="47160" cy="342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19" name="Rectangle 26"/>
            <p:cNvSpPr/>
            <p:nvPr/>
          </p:nvSpPr>
          <p:spPr>
            <a:xfrm rot="3418800">
              <a:off x="6124680" y="1416240"/>
              <a:ext cx="853200" cy="916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0" name="Text Box 35"/>
          <p:cNvSpPr/>
          <p:nvPr/>
        </p:nvSpPr>
        <p:spPr>
          <a:xfrm>
            <a:off x="16765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32767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瓣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00600" y="1676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Text Box 38"/>
          <p:cNvSpPr/>
          <p:nvPr/>
        </p:nvSpPr>
        <p:spPr>
          <a:xfrm>
            <a:off x="6324480" y="1676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间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Text Box 40"/>
          <p:cNvSpPr/>
          <p:nvPr/>
        </p:nvSpPr>
        <p:spPr>
          <a:xfrm>
            <a:off x="1828800" y="2971800"/>
            <a:ext cx="198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机械板层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秒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—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Text Box 43"/>
          <p:cNvSpPr/>
          <p:nvPr/>
        </p:nvSpPr>
        <p:spPr>
          <a:xfrm>
            <a:off x="4495680" y="2971800"/>
            <a:ext cx="25146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60kHz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飞秒激光制瓣在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秒以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AMO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150kHz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飞秒激光需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秒或更少。</a:t>
            </a: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版面配置區 3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頁尾版面配置區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4920" y="13716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制瓣厚度的精确性方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预先设计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μ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厚的角膜瓣，有的板层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刀头制瓣实际厚度会达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40.53±15.14μ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16μm -179μ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，而飞秒激光制瓣的平均厚度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15.8 ±12.0μ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94μm -154μ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；有的板层刀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刀头制瓣，实际会达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28.03±12.03μ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而用飞秒激光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μ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瓣，实际厚度约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05.3±12.3μ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目前有一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B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设计的板层刀，制瓣厚度约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00.38±10.07μ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77μm -125μ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左右；当然用飞秒激光制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μ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角膜瓣也会更加精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飞秒激光精确制瓣的优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914400" y="1219320"/>
            <a:ext cx="7543440" cy="5180760"/>
            <a:chOff x="914400" y="1219320"/>
            <a:chExt cx="7543440" cy="5180760"/>
          </a:xfrm>
        </p:grpSpPr>
        <p:sp>
          <p:nvSpPr>
            <p:cNvPr id="234" name="未知"/>
            <p:cNvSpPr/>
            <p:nvPr/>
          </p:nvSpPr>
          <p:spPr>
            <a:xfrm>
              <a:off x="5203440" y="1219320"/>
              <a:ext cx="1512720" cy="1192680"/>
            </a:xfrm>
            <a:custGeom>
              <a:avLst/>
              <a:gdLst>
                <a:gd name="textAreaLeft" fmla="*/ 0 w 1512720"/>
                <a:gd name="textAreaRight" fmla="*/ 1513080 w 1512720"/>
                <a:gd name="textAreaTop" fmla="*/ 0 h 1192680"/>
                <a:gd name="textAreaBottom" fmla="*/ 1193040 h 1192680"/>
              </a:gdLst>
              <a:ahLst/>
              <a:rect l="textAreaLeft" t="textAreaTop" r="textAreaRight" b="textAreaBottom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78b8b">
                    <a:alpha val="32156"/>
                  </a:srgbClr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>
              <a:off x="3502440" y="2698920"/>
              <a:ext cx="2367000" cy="3257640"/>
            </a:xfrm>
            <a:custGeom>
              <a:avLst/>
              <a:gdLst>
                <a:gd name="textAreaLeft" fmla="*/ 32400 w 2367000"/>
                <a:gd name="textAreaRight" fmla="*/ 2334600 w 2367000"/>
                <a:gd name="textAreaTop" fmla="*/ 32400 h 3257640"/>
                <a:gd name="textAreaBottom" fmla="*/ 3225240 h 3257640"/>
              </a:gdLst>
              <a:ahLst/>
              <a:rect l="textAreaLeft" t="textAreaTop" r="textAreaRight" b="textAreaBottom"/>
              <a:pathLst>
                <a:path w="21600" h="29726">
                  <a:moveTo>
                    <a:pt x="1013" y="0"/>
                  </a:moveTo>
                  <a:arcTo wR="1013" hR="1013" stAng="16200000" swAng="-5400000"/>
                  <a:lnTo>
                    <a:pt x="0" y="28713"/>
                  </a:lnTo>
                  <a:arcTo wR="1013" hR="1013" stAng="10800000" swAng="-5400000"/>
                  <a:lnTo>
                    <a:pt x="20587" y="29726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>
              <a:off x="3743280" y="2556000"/>
              <a:ext cx="1921680" cy="29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1800"/>
                </a:gs>
                <a:gs pos="5000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 flipH="1">
              <a:off x="5471280" y="2634840"/>
              <a:ext cx="75240" cy="148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 flipH="1">
              <a:off x="3830760" y="2625120"/>
              <a:ext cx="73800" cy="148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6090840" y="2181240"/>
              <a:ext cx="2367000" cy="3257280"/>
            </a:xfrm>
            <a:custGeom>
              <a:avLst/>
              <a:gdLst>
                <a:gd name="textAreaLeft" fmla="*/ 32400 w 2367000"/>
                <a:gd name="textAreaRight" fmla="*/ 2334600 w 2367000"/>
                <a:gd name="textAreaTop" fmla="*/ 32400 h 3257280"/>
                <a:gd name="textAreaBottom" fmla="*/ 3224880 h 3257280"/>
              </a:gdLst>
              <a:ahLst/>
              <a:rect l="textAreaLeft" t="textAreaTop" r="textAreaRight" b="textAreaBottom"/>
              <a:pathLst>
                <a:path w="21600" h="29723">
                  <a:moveTo>
                    <a:pt x="1013" y="0"/>
                  </a:moveTo>
                  <a:arcTo wR="1013" hR="1013" stAng="16200000" swAng="-5400000"/>
                  <a:lnTo>
                    <a:pt x="0" y="28710"/>
                  </a:lnTo>
                  <a:arcTo wR="1013" hR="1013" stAng="10800000" swAng="-5400000"/>
                  <a:lnTo>
                    <a:pt x="20587" y="2972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6313320" y="2033640"/>
              <a:ext cx="1921680" cy="29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AutoShape 11"/>
            <p:cNvSpPr/>
            <p:nvPr/>
          </p:nvSpPr>
          <p:spPr>
            <a:xfrm flipH="1">
              <a:off x="8051040" y="2107080"/>
              <a:ext cx="73800" cy="147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AutoShape 12"/>
            <p:cNvSpPr/>
            <p:nvPr/>
          </p:nvSpPr>
          <p:spPr>
            <a:xfrm flipH="1">
              <a:off x="6419880" y="2107080"/>
              <a:ext cx="73440" cy="147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2541240" y="1736640"/>
              <a:ext cx="1512720" cy="1194480"/>
            </a:xfrm>
            <a:custGeom>
              <a:avLst/>
              <a:gdLst>
                <a:gd name="textAreaLeft" fmla="*/ 0 w 1512720"/>
                <a:gd name="textAreaRight" fmla="*/ 1513080 w 1512720"/>
                <a:gd name="textAreaTop" fmla="*/ 0 h 1194480"/>
                <a:gd name="textAreaBottom" fmla="*/ 1194840 h 1194480"/>
              </a:gdLst>
              <a:ahLst/>
              <a:rect l="textAreaLeft" t="textAreaTop" r="textAreaRight" b="textAreaBottom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Text Box 14"/>
            <p:cNvSpPr/>
            <p:nvPr/>
          </p:nvSpPr>
          <p:spPr>
            <a:xfrm>
              <a:off x="4591080" y="2515320"/>
              <a:ext cx="183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7182720" y="2005920"/>
              <a:ext cx="184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6" name="Group 16"/>
            <p:cNvGrpSpPr/>
            <p:nvPr/>
          </p:nvGrpSpPr>
          <p:grpSpPr>
            <a:xfrm>
              <a:off x="914400" y="2957760"/>
              <a:ext cx="2366640" cy="3442320"/>
              <a:chOff x="914400" y="2957760"/>
              <a:chExt cx="2366640" cy="3442320"/>
            </a:xfrm>
          </p:grpSpPr>
          <p:sp>
            <p:nvSpPr>
              <p:cNvPr id="247" name="AutoShape 17"/>
              <p:cNvSpPr/>
              <p:nvPr/>
            </p:nvSpPr>
            <p:spPr>
              <a:xfrm>
                <a:off x="914400" y="3142800"/>
                <a:ext cx="2366640" cy="3257280"/>
              </a:xfrm>
              <a:custGeom>
                <a:avLst/>
                <a:gdLst>
                  <a:gd name="textAreaLeft" fmla="*/ 32400 w 2366640"/>
                  <a:gd name="textAreaRight" fmla="*/ 2334240 w 2366640"/>
                  <a:gd name="textAreaTop" fmla="*/ 32400 h 3257280"/>
                  <a:gd name="textAreaBottom" fmla="*/ 3224880 h 3257280"/>
                </a:gdLst>
                <a:ahLst/>
                <a:rect l="textAreaLeft" t="textAreaTop" r="textAreaRight" b="textAreaBottom"/>
                <a:pathLst>
                  <a:path w="21600" h="29728">
                    <a:moveTo>
                      <a:pt x="1013" y="0"/>
                    </a:moveTo>
                    <a:arcTo wR="1013" hR="1013" stAng="16200000" swAng="-5400000"/>
                    <a:lnTo>
                      <a:pt x="0" y="28715"/>
                    </a:lnTo>
                    <a:arcTo wR="1013" hR="1013" stAng="10800000" swAng="-5400000"/>
                    <a:lnTo>
                      <a:pt x="20587" y="29728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AutoShape 18"/>
              <p:cNvSpPr/>
              <p:nvPr/>
            </p:nvSpPr>
            <p:spPr>
              <a:xfrm>
                <a:off x="1136880" y="2995560"/>
                <a:ext cx="1921680" cy="29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AutoShape 19"/>
              <p:cNvSpPr/>
              <p:nvPr/>
            </p:nvSpPr>
            <p:spPr>
              <a:xfrm flipH="1">
                <a:off x="2872800" y="3069000"/>
                <a:ext cx="73800" cy="14868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0" name="AutoShape 20"/>
              <p:cNvSpPr/>
              <p:nvPr/>
            </p:nvSpPr>
            <p:spPr>
              <a:xfrm flipH="1">
                <a:off x="1240920" y="3069000"/>
                <a:ext cx="75240" cy="14868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1" name="Text Box 21"/>
              <p:cNvSpPr/>
              <p:nvPr/>
            </p:nvSpPr>
            <p:spPr>
              <a:xfrm>
                <a:off x="1991520" y="2957760"/>
                <a:ext cx="182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Text Box 22"/>
              <p:cNvSpPr/>
              <p:nvPr/>
            </p:nvSpPr>
            <p:spPr>
              <a:xfrm>
                <a:off x="992880" y="3411720"/>
                <a:ext cx="2199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00000"/>
                    </a:solidFill>
                    <a:latin typeface="Arial"/>
                    <a:ea typeface="宋体"/>
                  </a:rPr>
                  <a:t>做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Arial"/>
                    <a:ea typeface="宋体"/>
                  </a:rPr>
                  <a:t>SBK</a:t>
                </a:r>
                <a:r>
                  <a:rPr b="1" lang="zh-CN" sz="2400" spc="-1" strike="noStrike">
                    <a:solidFill>
                      <a:srgbClr val="800000"/>
                    </a:solidFill>
                    <a:latin typeface="Arial"/>
                    <a:ea typeface="宋体"/>
                  </a:rPr>
                  <a:t>时角膜瓣厚度的精确性越高，手术的安全性就越大，术后发生角膜膨隆的风险就会更小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3" name="Text Box 23"/>
            <p:cNvSpPr/>
            <p:nvPr/>
          </p:nvSpPr>
          <p:spPr>
            <a:xfrm>
              <a:off x="3585960" y="293976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Arial"/>
                  <a:ea typeface="宋体"/>
                </a:rPr>
                <a:t>角膜瓣越薄其损伤的神经更少，也能进一步减少术后干眼的发生率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6179400" y="2389320"/>
              <a:ext cx="219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5" name="Text Box 25"/>
          <p:cNvSpPr/>
          <p:nvPr/>
        </p:nvSpPr>
        <p:spPr>
          <a:xfrm>
            <a:off x="6019920" y="236232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Arial"/>
                <a:ea typeface="宋体"/>
              </a:rPr>
              <a:t>正是由于飞秒激光在制瓣精确性方面的优势，所以，它一开始就涉足到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SBK</a:t>
            </a:r>
            <a:r>
              <a:rPr b="1" lang="zh-CN" sz="2200" spc="-1" strike="noStrike">
                <a:solidFill>
                  <a:srgbClr val="800000"/>
                </a:solidFill>
                <a:latin typeface="Arial"/>
                <a:ea typeface="宋体"/>
              </a:rPr>
              <a:t>技术，我们用飞秒激光制作的角膜瓣基本上都是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90--100μm</a:t>
            </a:r>
            <a:r>
              <a:rPr b="1" lang="zh-CN" sz="2200" spc="-1" strike="noStrike">
                <a:solidFill>
                  <a:srgbClr val="800000"/>
                </a:solidFill>
                <a:latin typeface="Arial"/>
                <a:ea typeface="宋体"/>
              </a:rPr>
              <a:t>的角膜瓣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角膜瓣粘附力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在角膜瓣粘附力方面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最近一项由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Dr.knorz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和同事们开展的研究发现，对于角膜瓣的粘附力，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飞秒激光制作的角膜瓣大约比机械微型刀制作的角膜瓣强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2.5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倍。他们又制作了瓣缘角度为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150°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的兔角膜瓣，结果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激光的比角膜刀的强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3.5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倍。如果你在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个月后试图掀开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瓣，你会发现十分困难。而机械角膜刀做的瓣，即使是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年前作的，掀瓣都比较容易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角膜瓣粘附力对比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143000"/>
          <a:ext cx="8229600" cy="5294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微型角膜刀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制瓣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130um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Intralase FS 15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制瓣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110um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微型角膜刀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制瓣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140um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Intralase FS 150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制瓣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120um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41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月：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角膜瓣牵拉力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65g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月：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角膜瓣牵拉力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127.5g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Jae Yong Kim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月：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角膜瓣牵拉力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126.7g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月：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角膜瓣牵拉力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191.3g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Jae Yong Kim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75</a:t>
                      </a: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天：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角膜瓣牵拉力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210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±89g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114-360g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Michael C.Knorz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75</a:t>
                      </a: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天：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角膜瓣牵拉力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宋体"/>
                          <a:ea typeface="宋体"/>
                        </a:rPr>
                        <a:t>492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±46g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439-540g</a:t>
                      </a:r>
                      <a:r>
                        <a:rPr b="1" lang="zh-CN" sz="20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）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宋体"/>
                          <a:ea typeface="宋体"/>
                        </a:rPr>
                        <a:t>Michael C.Knorz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版面配置區 6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頁尾版面配置區 7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9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8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伦敦大学国王学院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John Marshal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垂直切削的角膜瓣在术后显示出可以和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PRK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相比的生物学强度，特别是在做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Bowman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层下或称为“薄瓣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LASIK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时薄的角膜瓣（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微米）时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标准的微型角膜刀切削的非斜形边缘瓣显示只残留很小的强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就像一个邦迪创可贴贴在篮球上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6227640" y="3774960"/>
            <a:ext cx="2119320" cy="2581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7732800" y="3641760"/>
            <a:ext cx="5983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在制作“个性化”角膜瓣方面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762120" y="1676520"/>
            <a:ext cx="7390800" cy="4724280"/>
            <a:chOff x="762120" y="1676520"/>
            <a:chExt cx="7390800" cy="4724280"/>
          </a:xfrm>
        </p:grpSpPr>
        <p:sp>
          <p:nvSpPr>
            <p:cNvPr id="274" name="AutoShape 5"/>
            <p:cNvSpPr/>
            <p:nvPr/>
          </p:nvSpPr>
          <p:spPr>
            <a:xfrm>
              <a:off x="1752480" y="2438640"/>
              <a:ext cx="553032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AutoShape 6"/>
            <p:cNvSpPr/>
            <p:nvPr/>
          </p:nvSpPr>
          <p:spPr>
            <a:xfrm>
              <a:off x="2285640" y="1676520"/>
              <a:ext cx="4419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e4e"/>
                </a:gs>
                <a:gs pos="50000">
                  <a:srgbClr val="008080"/>
                </a:gs>
                <a:gs pos="100000">
                  <a:srgbClr val="004e4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个性化手术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4408200" y="30337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7" name="Group 8"/>
            <p:cNvGrpSpPr/>
            <p:nvPr/>
          </p:nvGrpSpPr>
          <p:grpSpPr>
            <a:xfrm>
              <a:off x="762120" y="4311720"/>
              <a:ext cx="1485720" cy="1989000"/>
              <a:chOff x="762120" y="4311720"/>
              <a:chExt cx="1485720" cy="1989000"/>
            </a:xfrm>
          </p:grpSpPr>
          <p:grpSp>
            <p:nvGrpSpPr>
              <p:cNvPr id="278" name="Group 9"/>
              <p:cNvGrpSpPr/>
              <p:nvPr/>
            </p:nvGrpSpPr>
            <p:grpSpPr>
              <a:xfrm>
                <a:off x="762120" y="4311720"/>
                <a:ext cx="1485720" cy="1514520"/>
                <a:chOff x="762120" y="4311720"/>
                <a:chExt cx="1485720" cy="1514520"/>
              </a:xfrm>
            </p:grpSpPr>
            <p:grpSp>
              <p:nvGrpSpPr>
                <p:cNvPr id="279" name="Group 10"/>
                <p:cNvGrpSpPr/>
                <p:nvPr/>
              </p:nvGrpSpPr>
              <p:grpSpPr>
                <a:xfrm>
                  <a:off x="762120" y="4311720"/>
                  <a:ext cx="1485720" cy="1514520"/>
                  <a:chOff x="762120" y="4311720"/>
                  <a:chExt cx="1485720" cy="1514520"/>
                </a:xfrm>
              </p:grpSpPr>
              <p:sp>
                <p:nvSpPr>
                  <p:cNvPr id="280" name="Oval 11"/>
                  <p:cNvSpPr/>
                  <p:nvPr/>
                </p:nvSpPr>
                <p:spPr>
                  <a:xfrm>
                    <a:off x="762120" y="4311720"/>
                    <a:ext cx="148572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3300"/>
                      </a:gs>
                      <a:gs pos="100000">
                        <a:srgbClr val="612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未知"/>
                  <p:cNvSpPr/>
                  <p:nvPr/>
                </p:nvSpPr>
                <p:spPr>
                  <a:xfrm>
                    <a:off x="931680" y="4336560"/>
                    <a:ext cx="1146240" cy="571680"/>
                  </a:xfrm>
                  <a:custGeom>
                    <a:avLst/>
                    <a:gdLst>
                      <a:gd name="textAreaLeft" fmla="*/ 0 w 1146240"/>
                      <a:gd name="textAreaRight" fmla="*/ 1146600 w 1146240"/>
                      <a:gd name="textAreaTop" fmla="*/ 0 h 571680"/>
                      <a:gd name="textAreaBottom" fmla="*/ 572040 h 57168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33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" name="Text Box 13"/>
                <p:cNvSpPr/>
                <p:nvPr/>
              </p:nvSpPr>
              <p:spPr>
                <a:xfrm>
                  <a:off x="1178640" y="506916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瓣厚度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直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Oval 14"/>
              <p:cNvSpPr/>
              <p:nvPr/>
            </p:nvSpPr>
            <p:spPr>
              <a:xfrm>
                <a:off x="914040" y="5911920"/>
                <a:ext cx="120636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5"/>
            <p:cNvGrpSpPr/>
            <p:nvPr/>
          </p:nvGrpSpPr>
          <p:grpSpPr>
            <a:xfrm>
              <a:off x="6629040" y="4267440"/>
              <a:ext cx="1523880" cy="2066760"/>
              <a:chOff x="6629040" y="4267440"/>
              <a:chExt cx="1523880" cy="2066760"/>
            </a:xfrm>
          </p:grpSpPr>
          <p:grpSp>
            <p:nvGrpSpPr>
              <p:cNvPr id="285" name="Group 16"/>
              <p:cNvGrpSpPr/>
              <p:nvPr/>
            </p:nvGrpSpPr>
            <p:grpSpPr>
              <a:xfrm>
                <a:off x="6629040" y="4267440"/>
                <a:ext cx="1523880" cy="1531800"/>
                <a:chOff x="6629040" y="4267440"/>
                <a:chExt cx="1523880" cy="1531800"/>
              </a:xfrm>
            </p:grpSpPr>
            <p:grpSp>
              <p:nvGrpSpPr>
                <p:cNvPr id="286" name="Group 17"/>
                <p:cNvGrpSpPr/>
                <p:nvPr/>
              </p:nvGrpSpPr>
              <p:grpSpPr>
                <a:xfrm>
                  <a:off x="6629040" y="4267440"/>
                  <a:ext cx="1523880" cy="1531800"/>
                  <a:chOff x="6629040" y="4267440"/>
                  <a:chExt cx="1523880" cy="1531800"/>
                </a:xfrm>
              </p:grpSpPr>
              <p:sp>
                <p:nvSpPr>
                  <p:cNvPr id="287" name="Oval 18"/>
                  <p:cNvSpPr/>
                  <p:nvPr/>
                </p:nvSpPr>
                <p:spPr>
                  <a:xfrm>
                    <a:off x="6629040" y="42674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未知"/>
                  <p:cNvSpPr/>
                  <p:nvPr/>
                </p:nvSpPr>
                <p:spPr>
                  <a:xfrm>
                    <a:off x="6803280" y="4292640"/>
                    <a:ext cx="1175400" cy="578160"/>
                  </a:xfrm>
                  <a:custGeom>
                    <a:avLst/>
                    <a:gdLst>
                      <a:gd name="textAreaLeft" fmla="*/ 0 w 1175400"/>
                      <a:gd name="textAreaRight" fmla="*/ 1175760 w 1175400"/>
                      <a:gd name="textAreaTop" fmla="*/ 0 h 578160"/>
                      <a:gd name="textAreaBottom" fmla="*/ 578520 h 5781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Text Box 20"/>
                <p:cNvSpPr/>
                <p:nvPr/>
              </p:nvSpPr>
              <p:spPr>
                <a:xfrm>
                  <a:off x="6902640" y="4966920"/>
                  <a:ext cx="9428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瓣缘入切角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角度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Oval 21"/>
              <p:cNvSpPr/>
              <p:nvPr/>
            </p:nvSpPr>
            <p:spPr>
              <a:xfrm>
                <a:off x="6671880" y="58471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2"/>
            <p:cNvGrpSpPr/>
            <p:nvPr/>
          </p:nvGrpSpPr>
          <p:grpSpPr>
            <a:xfrm>
              <a:off x="2666880" y="4311720"/>
              <a:ext cx="1523520" cy="2089080"/>
              <a:chOff x="2666880" y="4311720"/>
              <a:chExt cx="1523520" cy="2089080"/>
            </a:xfrm>
          </p:grpSpPr>
          <p:grpSp>
            <p:nvGrpSpPr>
              <p:cNvPr id="292" name="Group 23"/>
              <p:cNvGrpSpPr/>
              <p:nvPr/>
            </p:nvGrpSpPr>
            <p:grpSpPr>
              <a:xfrm>
                <a:off x="2666880" y="4311720"/>
                <a:ext cx="1523520" cy="1521000"/>
                <a:chOff x="2666880" y="4311720"/>
                <a:chExt cx="1523520" cy="1521000"/>
              </a:xfrm>
            </p:grpSpPr>
            <p:sp>
              <p:nvSpPr>
                <p:cNvPr id="293" name="Oval 24"/>
                <p:cNvSpPr/>
                <p:nvPr/>
              </p:nvSpPr>
              <p:spPr>
                <a:xfrm>
                  <a:off x="2666880" y="4311720"/>
                  <a:ext cx="152352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42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>
                  <a:off x="2840760" y="4336920"/>
                  <a:ext cx="1175400" cy="573840"/>
                </a:xfrm>
                <a:custGeom>
                  <a:avLst/>
                  <a:gdLst>
                    <a:gd name="textAreaLeft" fmla="*/ 0 w 1175400"/>
                    <a:gd name="textAreaRight" fmla="*/ 1175760 w 1175400"/>
                    <a:gd name="textAreaTop" fmla="*/ 0 h 573840"/>
                    <a:gd name="textAreaBottom" fmla="*/ 574200 h 5738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Text Box 26"/>
              <p:cNvSpPr/>
              <p:nvPr/>
            </p:nvSpPr>
            <p:spPr>
              <a:xfrm>
                <a:off x="2742840" y="504180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瓣形状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27"/>
              <p:cNvSpPr/>
              <p:nvPr/>
            </p:nvSpPr>
            <p:spPr>
              <a:xfrm>
                <a:off x="2666880" y="5911920"/>
                <a:ext cx="145368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28"/>
            <p:cNvGrpSpPr/>
            <p:nvPr/>
          </p:nvGrpSpPr>
          <p:grpSpPr>
            <a:xfrm>
              <a:off x="4724280" y="4267440"/>
              <a:ext cx="1523520" cy="2089080"/>
              <a:chOff x="4724280" y="4267440"/>
              <a:chExt cx="1523520" cy="2089080"/>
            </a:xfrm>
          </p:grpSpPr>
          <p:grpSp>
            <p:nvGrpSpPr>
              <p:cNvPr id="298" name="Group 29"/>
              <p:cNvGrpSpPr/>
              <p:nvPr/>
            </p:nvGrpSpPr>
            <p:grpSpPr>
              <a:xfrm>
                <a:off x="4724280" y="4267440"/>
                <a:ext cx="1523520" cy="1521000"/>
                <a:chOff x="4724280" y="4267440"/>
                <a:chExt cx="1523520" cy="1521000"/>
              </a:xfrm>
            </p:grpSpPr>
            <p:grpSp>
              <p:nvGrpSpPr>
                <p:cNvPr id="299" name="Group 30"/>
                <p:cNvGrpSpPr/>
                <p:nvPr/>
              </p:nvGrpSpPr>
              <p:grpSpPr>
                <a:xfrm>
                  <a:off x="4724280" y="4267440"/>
                  <a:ext cx="1523520" cy="1521000"/>
                  <a:chOff x="4724280" y="4267440"/>
                  <a:chExt cx="1523520" cy="1521000"/>
                </a:xfrm>
              </p:grpSpPr>
              <p:sp>
                <p:nvSpPr>
                  <p:cNvPr id="300" name="Oval 31"/>
                  <p:cNvSpPr/>
                  <p:nvPr/>
                </p:nvSpPr>
                <p:spPr>
                  <a:xfrm>
                    <a:off x="4724280" y="4267440"/>
                    <a:ext cx="152352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cc"/>
                      </a:gs>
                      <a:gs pos="100000">
                        <a:srgbClr val="004f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未知"/>
                  <p:cNvSpPr/>
                  <p:nvPr/>
                </p:nvSpPr>
                <p:spPr>
                  <a:xfrm>
                    <a:off x="4898160" y="4292640"/>
                    <a:ext cx="1175400" cy="573840"/>
                  </a:xfrm>
                  <a:custGeom>
                    <a:avLst/>
                    <a:gdLst>
                      <a:gd name="textAreaLeft" fmla="*/ 0 w 1175400"/>
                      <a:gd name="textAreaRight" fmla="*/ 1175760 w 1175400"/>
                      <a:gd name="textAreaTop" fmla="*/ 0 h 573840"/>
                      <a:gd name="textAreaBottom" fmla="*/ 574200 h 57384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2" name="Text Box 33"/>
                <p:cNvSpPr/>
                <p:nvPr/>
              </p:nvSpPr>
              <p:spPr>
                <a:xfrm>
                  <a:off x="4800240" y="4997520"/>
                  <a:ext cx="13712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瓣蒂位置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宽度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Oval 34"/>
              <p:cNvSpPr/>
              <p:nvPr/>
            </p:nvSpPr>
            <p:spPr>
              <a:xfrm>
                <a:off x="4724280" y="5867640"/>
                <a:ext cx="145368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飞秒激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BK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手术的诸多优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1204920" y="1280880"/>
            <a:ext cx="6575400" cy="4665960"/>
            <a:chOff x="1204920" y="1280880"/>
            <a:chExt cx="6575400" cy="4665960"/>
          </a:xfrm>
        </p:grpSpPr>
        <p:sp>
          <p:nvSpPr>
            <p:cNvPr id="308" name="Oval 4"/>
            <p:cNvSpPr/>
            <p:nvPr/>
          </p:nvSpPr>
          <p:spPr>
            <a:xfrm>
              <a:off x="221796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 rot="20601600">
              <a:off x="152856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 rot="20601600">
              <a:off x="154764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rc 7"/>
            <p:cNvSpPr/>
            <p:nvPr/>
          </p:nvSpPr>
          <p:spPr>
            <a:xfrm rot="20601600">
              <a:off x="4205160" y="1905120"/>
              <a:ext cx="2849400" cy="1967040"/>
            </a:xfrm>
            <a:custGeom>
              <a:avLst/>
              <a:gdLst>
                <a:gd name="textAreaLeft" fmla="*/ 0 w 2849400"/>
                <a:gd name="textAreaRight" fmla="*/ 2849760 w 2849400"/>
                <a:gd name="textAreaTop" fmla="*/ 0 h 1967040"/>
                <a:gd name="textAreaBottom" fmla="*/ 1967400 h 196704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rc 8"/>
            <p:cNvSpPr/>
            <p:nvPr/>
          </p:nvSpPr>
          <p:spPr>
            <a:xfrm flipH="1" rot="20602200">
              <a:off x="1792800" y="3780000"/>
              <a:ext cx="3281400" cy="1476360"/>
            </a:xfrm>
            <a:custGeom>
              <a:avLst/>
              <a:gdLst>
                <a:gd name="textAreaLeft" fmla="*/ -360 w 3281400"/>
                <a:gd name="textAreaRight" fmla="*/ 3281400 w 32814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5d7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3" name="Arc 9"/>
            <p:cNvSpPr/>
            <p:nvPr/>
          </p:nvSpPr>
          <p:spPr>
            <a:xfrm rot="20601600">
              <a:off x="2730240" y="1987560"/>
              <a:ext cx="3133800" cy="1417680"/>
            </a:xfrm>
            <a:custGeom>
              <a:avLst/>
              <a:gdLst>
                <a:gd name="textAreaLeft" fmla="*/ 0 w 3133800"/>
                <a:gd name="textAreaRight" fmla="*/ 3134160 w 313380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4" name="Arc 10"/>
            <p:cNvSpPr/>
            <p:nvPr/>
          </p:nvSpPr>
          <p:spPr>
            <a:xfrm flipH="1" rot="20602200">
              <a:off x="1447200" y="2514240"/>
              <a:ext cx="2849400" cy="2111400"/>
            </a:xfrm>
            <a:custGeom>
              <a:avLst/>
              <a:gdLst>
                <a:gd name="textAreaLeft" fmla="*/ -360 w 2849400"/>
                <a:gd name="textAreaRight" fmla="*/ 2849400 w 2849400"/>
                <a:gd name="textAreaTop" fmla="*/ 0 h 2111400"/>
                <a:gd name="textAreaBottom" fmla="*/ 2111760 h 2111400"/>
              </a:gdLst>
              <a:ahLst/>
              <a:rect l="textAreaLeft" t="textAreaTop" r="textAreaRight" b="textAreaBottom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531c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5" name="Oval 11"/>
            <p:cNvSpPr/>
            <p:nvPr/>
          </p:nvSpPr>
          <p:spPr>
            <a:xfrm rot="20601600">
              <a:off x="300996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6" name="Text Box 12"/>
            <p:cNvSpPr/>
            <p:nvPr/>
          </p:nvSpPr>
          <p:spPr>
            <a:xfrm>
              <a:off x="1978920" y="3375000"/>
              <a:ext cx="85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制瓣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更精准性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4219560" y="2195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6048360" y="24861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Group 15"/>
            <p:cNvGrpSpPr/>
            <p:nvPr/>
          </p:nvGrpSpPr>
          <p:grpSpPr>
            <a:xfrm>
              <a:off x="4370040" y="2466720"/>
              <a:ext cx="3164400" cy="2769120"/>
              <a:chOff x="4370040" y="2466720"/>
              <a:chExt cx="3164400" cy="2769120"/>
            </a:xfrm>
          </p:grpSpPr>
          <p:sp>
            <p:nvSpPr>
              <p:cNvPr id="320" name="未知"/>
              <p:cNvSpPr/>
              <p:nvPr/>
            </p:nvSpPr>
            <p:spPr>
              <a:xfrm>
                <a:off x="5524560" y="3448440"/>
                <a:ext cx="1773000" cy="1776240"/>
              </a:xfrm>
              <a:custGeom>
                <a:avLst/>
                <a:gdLst>
                  <a:gd name="textAreaLeft" fmla="*/ 0 w 1773000"/>
                  <a:gd name="textAreaRight" fmla="*/ 1773360 w 1773000"/>
                  <a:gd name="textAreaTop" fmla="*/ 0 h 1776240"/>
                  <a:gd name="textAreaBottom" fmla="*/ 1776600 h 1776240"/>
                </a:gdLst>
                <a:ahLst/>
                <a:rect l="textAreaLeft" t="textAreaTop" r="textAreaRight" b="textAreaBottom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b5b5b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1" name="Arc 17"/>
              <p:cNvSpPr/>
              <p:nvPr/>
            </p:nvSpPr>
            <p:spPr>
              <a:xfrm rot="20539200">
                <a:off x="4587840" y="2837160"/>
                <a:ext cx="2728800" cy="1859040"/>
              </a:xfrm>
              <a:custGeom>
                <a:avLst/>
                <a:gdLst>
                  <a:gd name="textAreaLeft" fmla="*/ 0 w 2728800"/>
                  <a:gd name="textAreaRight" fmla="*/ 2729160 w 2728800"/>
                  <a:gd name="textAreaTop" fmla="*/ 0 h 1859040"/>
                  <a:gd name="textAreaBottom" fmla="*/ 1859400 h 1859040"/>
                </a:gdLst>
                <a:ahLst/>
                <a:rect l="textAreaLeft" t="textAreaTop" r="textAreaRight" b="textAreaBottom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4659120" y="3924720"/>
                <a:ext cx="924120" cy="1311120"/>
              </a:xfrm>
              <a:custGeom>
                <a:avLst/>
                <a:gdLst>
                  <a:gd name="textAreaLeft" fmla="*/ 0 w 924120"/>
                  <a:gd name="textAreaRight" fmla="*/ 924480 w 924120"/>
                  <a:gd name="textAreaTop" fmla="*/ 0 h 1311120"/>
                  <a:gd name="textAreaBottom" fmla="*/ 1311480 h 1311120"/>
                </a:gdLst>
                <a:ahLst/>
                <a:rect l="textAreaLeft" t="textAreaTop" r="textAreaRight" b="textAreaBottom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Text Box 19"/>
              <p:cNvSpPr/>
              <p:nvPr/>
            </p:nvSpPr>
            <p:spPr>
              <a:xfrm>
                <a:off x="5332320" y="3680280"/>
                <a:ext cx="10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角膜瓣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不容易移位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24" name="Text Box 20"/>
            <p:cNvSpPr/>
            <p:nvPr/>
          </p:nvSpPr>
          <p:spPr>
            <a:xfrm>
              <a:off x="3120840" y="4365720"/>
              <a:ext cx="100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上皮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不容易植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4503960" y="3990960"/>
              <a:ext cx="838080" cy="11080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Oval 22"/>
            <p:cNvSpPr/>
            <p:nvPr/>
          </p:nvSpPr>
          <p:spPr>
            <a:xfrm rot="20601600">
              <a:off x="311328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7" name="Text Box 23"/>
          <p:cNvSpPr/>
          <p:nvPr/>
        </p:nvSpPr>
        <p:spPr>
          <a:xfrm>
            <a:off x="4495680" y="1981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瓣的粘附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更强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飞秒激光在精确度和安全性上的优势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  <a:ea typeface="宋体"/>
              </a:rPr>
              <a:t>,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使其适应范围进一步扩大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1219320" y="2209680"/>
            <a:ext cx="2170080" cy="4035600"/>
            <a:chOff x="1219320" y="2209680"/>
            <a:chExt cx="2170080" cy="4035600"/>
          </a:xfrm>
        </p:grpSpPr>
        <p:sp>
          <p:nvSpPr>
            <p:cNvPr id="332" name="AutoShape 4"/>
            <p:cNvSpPr/>
            <p:nvPr/>
          </p:nvSpPr>
          <p:spPr>
            <a:xfrm>
              <a:off x="1219320" y="251748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AutoShape 5"/>
            <p:cNvSpPr/>
            <p:nvPr/>
          </p:nvSpPr>
          <p:spPr>
            <a:xfrm>
              <a:off x="1252800" y="252576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AutoShape 6"/>
            <p:cNvSpPr/>
            <p:nvPr/>
          </p:nvSpPr>
          <p:spPr>
            <a:xfrm>
              <a:off x="1270080" y="458928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AutoShape 7"/>
            <p:cNvSpPr/>
            <p:nvPr/>
          </p:nvSpPr>
          <p:spPr>
            <a:xfrm>
              <a:off x="1270080" y="254772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AutoShape 8"/>
            <p:cNvSpPr/>
            <p:nvPr/>
          </p:nvSpPr>
          <p:spPr>
            <a:xfrm>
              <a:off x="1225800" y="537516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AutoShape 9"/>
            <p:cNvSpPr/>
            <p:nvPr/>
          </p:nvSpPr>
          <p:spPr>
            <a:xfrm>
              <a:off x="1270080" y="539892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8" name="Group 10"/>
            <p:cNvGrpSpPr/>
            <p:nvPr/>
          </p:nvGrpSpPr>
          <p:grpSpPr>
            <a:xfrm>
              <a:off x="1963800" y="2209680"/>
              <a:ext cx="642960" cy="642960"/>
              <a:chOff x="1963800" y="2209680"/>
              <a:chExt cx="642960" cy="642960"/>
            </a:xfrm>
          </p:grpSpPr>
          <p:sp>
            <p:nvSpPr>
              <p:cNvPr id="339" name="Oval 11"/>
              <p:cNvSpPr/>
              <p:nvPr/>
            </p:nvSpPr>
            <p:spPr>
              <a:xfrm>
                <a:off x="1963800" y="220968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12"/>
              <p:cNvSpPr/>
              <p:nvPr/>
            </p:nvSpPr>
            <p:spPr>
              <a:xfrm>
                <a:off x="1970280" y="221436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13"/>
              <p:cNvSpPr/>
              <p:nvPr/>
            </p:nvSpPr>
            <p:spPr>
              <a:xfrm>
                <a:off x="1978200" y="22183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14"/>
              <p:cNvSpPr/>
              <p:nvPr/>
            </p:nvSpPr>
            <p:spPr>
              <a:xfrm>
                <a:off x="1984680" y="222408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15"/>
              <p:cNvSpPr/>
              <p:nvPr/>
            </p:nvSpPr>
            <p:spPr>
              <a:xfrm>
                <a:off x="2018520" y="223956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4" name="Text Box 16"/>
            <p:cNvSpPr/>
            <p:nvPr/>
          </p:nvSpPr>
          <p:spPr>
            <a:xfrm>
              <a:off x="2103840" y="230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1295640" y="297180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更高的屈光度（近视或远视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薄角膜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3581280" y="2209680"/>
            <a:ext cx="2166840" cy="4035600"/>
            <a:chOff x="3581280" y="2209680"/>
            <a:chExt cx="2166840" cy="4035600"/>
          </a:xfrm>
        </p:grpSpPr>
        <p:sp>
          <p:nvSpPr>
            <p:cNvPr id="347" name="AutoShape 19"/>
            <p:cNvSpPr/>
            <p:nvPr/>
          </p:nvSpPr>
          <p:spPr>
            <a:xfrm>
              <a:off x="3581280" y="251748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3614760" y="252576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1"/>
            <p:cNvSpPr/>
            <p:nvPr/>
          </p:nvSpPr>
          <p:spPr>
            <a:xfrm>
              <a:off x="3632040" y="458928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AutoShape 22"/>
            <p:cNvSpPr/>
            <p:nvPr/>
          </p:nvSpPr>
          <p:spPr>
            <a:xfrm>
              <a:off x="3632040" y="254772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Oval 23"/>
            <p:cNvSpPr/>
            <p:nvPr/>
          </p:nvSpPr>
          <p:spPr>
            <a:xfrm>
              <a:off x="4325760" y="220968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4332240" y="221436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Oval 25"/>
            <p:cNvSpPr/>
            <p:nvPr/>
          </p:nvSpPr>
          <p:spPr>
            <a:xfrm>
              <a:off x="4340160" y="221760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4" name="Oval 26"/>
            <p:cNvSpPr/>
            <p:nvPr/>
          </p:nvSpPr>
          <p:spPr>
            <a:xfrm>
              <a:off x="4346280" y="222408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Oval 27"/>
            <p:cNvSpPr/>
            <p:nvPr/>
          </p:nvSpPr>
          <p:spPr>
            <a:xfrm>
              <a:off x="4381560" y="223992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465800" y="230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Text Box 29"/>
            <p:cNvSpPr/>
            <p:nvPr/>
          </p:nvSpPr>
          <p:spPr>
            <a:xfrm>
              <a:off x="3657600" y="297180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角膜偏小或偏大者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角膜曲率偏陡或偏平坦者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3584520" y="537516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9" name="AutoShape 31"/>
            <p:cNvSpPr/>
            <p:nvPr/>
          </p:nvSpPr>
          <p:spPr>
            <a:xfrm>
              <a:off x="3628800" y="539892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0" name="Group 32"/>
          <p:cNvGrpSpPr/>
          <p:nvPr/>
        </p:nvGrpSpPr>
        <p:grpSpPr>
          <a:xfrm>
            <a:off x="5943600" y="2209680"/>
            <a:ext cx="2170080" cy="4035600"/>
            <a:chOff x="5943600" y="2209680"/>
            <a:chExt cx="2170080" cy="4035600"/>
          </a:xfrm>
        </p:grpSpPr>
        <p:sp>
          <p:nvSpPr>
            <p:cNvPr id="361" name="AutoShape 33"/>
            <p:cNvSpPr/>
            <p:nvPr/>
          </p:nvSpPr>
          <p:spPr>
            <a:xfrm>
              <a:off x="5950080" y="251748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34"/>
            <p:cNvSpPr/>
            <p:nvPr/>
          </p:nvSpPr>
          <p:spPr>
            <a:xfrm>
              <a:off x="5983200" y="252576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AutoShape 35"/>
            <p:cNvSpPr/>
            <p:nvPr/>
          </p:nvSpPr>
          <p:spPr>
            <a:xfrm>
              <a:off x="6000840" y="458928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AutoShape 36"/>
            <p:cNvSpPr/>
            <p:nvPr/>
          </p:nvSpPr>
          <p:spPr>
            <a:xfrm>
              <a:off x="6000840" y="254772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5" name="Group 37"/>
            <p:cNvGrpSpPr/>
            <p:nvPr/>
          </p:nvGrpSpPr>
          <p:grpSpPr>
            <a:xfrm>
              <a:off x="6694560" y="2209680"/>
              <a:ext cx="642960" cy="642960"/>
              <a:chOff x="6694560" y="2209680"/>
              <a:chExt cx="642960" cy="642960"/>
            </a:xfrm>
          </p:grpSpPr>
          <p:sp>
            <p:nvSpPr>
              <p:cNvPr id="366" name="Oval 38"/>
              <p:cNvSpPr/>
              <p:nvPr/>
            </p:nvSpPr>
            <p:spPr>
              <a:xfrm>
                <a:off x="6694560" y="220968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7" name="Oval 39"/>
              <p:cNvSpPr/>
              <p:nvPr/>
            </p:nvSpPr>
            <p:spPr>
              <a:xfrm>
                <a:off x="6701040" y="221436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Oval 40"/>
              <p:cNvSpPr/>
              <p:nvPr/>
            </p:nvSpPr>
            <p:spPr>
              <a:xfrm>
                <a:off x="6708960" y="22183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Oval 41"/>
              <p:cNvSpPr/>
              <p:nvPr/>
            </p:nvSpPr>
            <p:spPr>
              <a:xfrm>
                <a:off x="6715440" y="222408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0" name="Oval 42"/>
              <p:cNvSpPr/>
              <p:nvPr/>
            </p:nvSpPr>
            <p:spPr>
              <a:xfrm>
                <a:off x="6749280" y="223956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1" name="Text Box 43"/>
            <p:cNvSpPr/>
            <p:nvPr/>
          </p:nvSpPr>
          <p:spPr>
            <a:xfrm>
              <a:off x="6834600" y="230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44"/>
            <p:cNvSpPr/>
            <p:nvPr/>
          </p:nvSpPr>
          <p:spPr>
            <a:xfrm>
              <a:off x="6026040" y="29718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对“刀片”或者“切瓣”恐惧的患者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AutoShape 45"/>
            <p:cNvSpPr/>
            <p:nvPr/>
          </p:nvSpPr>
          <p:spPr>
            <a:xfrm>
              <a:off x="5943600" y="537516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4" name="AutoShape 46"/>
            <p:cNvSpPr/>
            <p:nvPr/>
          </p:nvSpPr>
          <p:spPr>
            <a:xfrm>
              <a:off x="5987880" y="539892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5" name="Rectangle 47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飞秒激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BK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手术的诸多优势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62485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应用飞秒激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SBK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技术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更能收到良好的效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飞秒激光的手术效果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Daniel S. Durri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博士负责的一项随机、前瞻性的、独立中心的对比研究中，一只眼用某种机械角膜刀制瓣，而另一眼用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制瓣。在对所有手术眼做了连续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个月的随访后发现，两组的术后效果都非常好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但是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飞秒激光手术眼在术后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个月和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个月都获得了更好的视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81" name="Picture 4" descr="6de6e7015b6280261c95836f"/>
          <p:cNvPicPr/>
          <p:nvPr/>
        </p:nvPicPr>
        <p:blipFill>
          <a:blip r:embed="rId1"/>
          <a:stretch/>
        </p:blipFill>
        <p:spPr>
          <a:xfrm>
            <a:off x="6248520" y="4724280"/>
            <a:ext cx="25905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引  言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角膜屈光手术的新技术新设备不断被推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新的手术方法不断被应用于临床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人们对屈光手术的安全性、稳定性越来越关注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目前矫正屈光不正的主流术式仍为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LASIK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手术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spcAft>
                <a:spcPts val="349"/>
              </a:spcAft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LASIK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因角膜瓣的制作、基质床的切削等都可较明显地降低角膜的生物力学性能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手术组的术后视力非常令人满意，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以上达到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20/20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，在术后一个月超过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75%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达到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20/16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这些结果都优于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Daniel S. Durri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博士曾经使用的一种微型角膜刀所做的临床试验。通过调查问卷反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映出患者对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手术眼的视觉质量更满意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另外，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Schirmer's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试验结果提示两组的差异有统计学意义且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手术眼更好。术后的总额高阶相差，尤其彗差，两组差异有统计学意义且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intralas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手术眼更低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飞秒激光的手术效果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5" descr="38"/>
          <p:cNvPicPr/>
          <p:nvPr/>
        </p:nvPicPr>
        <p:blipFill>
          <a:blip r:embed="rId1"/>
          <a:stretch/>
        </p:blipFill>
        <p:spPr>
          <a:xfrm>
            <a:off x="7042320" y="2819520"/>
            <a:ext cx="2101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飞秒激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BK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手术安全性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0" name="Group 3"/>
          <p:cNvGrpSpPr/>
          <p:nvPr/>
        </p:nvGrpSpPr>
        <p:grpSpPr>
          <a:xfrm>
            <a:off x="632520" y="1731960"/>
            <a:ext cx="7386120" cy="3867120"/>
            <a:chOff x="632520" y="1731960"/>
            <a:chExt cx="7386120" cy="3867120"/>
          </a:xfrm>
        </p:grpSpPr>
        <p:sp>
          <p:nvSpPr>
            <p:cNvPr id="391" name="AutoShape 4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5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AutoShape 7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6112800" y="1731960"/>
              <a:ext cx="19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暂时性光敏感综合症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1503360" y="173196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前房气泡形成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Text Box 13"/>
            <p:cNvSpPr/>
            <p:nvPr/>
          </p:nvSpPr>
          <p:spPr>
            <a:xfrm>
              <a:off x="6718320" y="348444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负压丢失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14"/>
            <p:cNvSpPr/>
            <p:nvPr/>
          </p:nvSpPr>
          <p:spPr>
            <a:xfrm>
              <a:off x="5803920" y="508464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掀瓣困难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632520" y="3486240"/>
              <a:ext cx="15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LK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发生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1671480" y="502272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角膜内气泡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Oval 24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Oval 26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5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6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8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9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0" name="Text Box 33"/>
            <p:cNvSpPr/>
            <p:nvPr/>
          </p:nvSpPr>
          <p:spPr>
            <a:xfrm>
              <a:off x="4036320" y="3541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并发症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飞秒激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BK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手术安全性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在一项对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3009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只眼用飞秒激光做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SBK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的临床研究中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John.S.M chang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博士发现，总的并发症发生率非常低，仅有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0.63%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。所有的瓣相关并发症都在同一天给予处理。我们知道，角膜刀制作角膜瓣引起的并发症发生率大约为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，而飞秒激光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SBK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的并发症要明显低于这个比例，并且无严重的并发症出现。因此，飞秒激光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SBK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是一种十分安全的手术。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国内有学者发现，用飞秒激光制作的角膜瓣太薄时，在术后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月左右，角膜层间雾浊的比例会有所增加，所以建议制作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95-100μm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  <a:ea typeface="宋体"/>
              </a:rPr>
              <a:t>的角膜瓣。同时，尽量降低激光能量，这一问题就能很好的控制。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日期版面配置區 3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頁尾版面配置區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27" name="Object 0"/>
          <p:cNvGraphicFramePr/>
          <p:nvPr/>
        </p:nvGraphicFramePr>
        <p:xfrm>
          <a:off x="324000" y="5119560"/>
          <a:ext cx="4248000" cy="14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119560"/>
                    <a:ext cx="424800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Text Box 3"/>
          <p:cNvSpPr/>
          <p:nvPr/>
        </p:nvSpPr>
        <p:spPr>
          <a:xfrm>
            <a:off x="2057400" y="2362320"/>
            <a:ext cx="5410080" cy="7340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19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  <a:ea typeface="宋体"/>
              </a:rPr>
              <a:t>AMO</a:t>
            </a:r>
            <a:r>
              <a:rPr b="1" lang="zh-CN" sz="2100" spc="-1" strike="noStrike">
                <a:solidFill>
                  <a:srgbClr val="800000"/>
                </a:solidFill>
                <a:latin typeface="Arial"/>
                <a:ea typeface="宋体"/>
              </a:rPr>
              <a:t>的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  <a:ea typeface="宋体"/>
              </a:rPr>
              <a:t>Intralase</a:t>
            </a:r>
            <a:r>
              <a:rPr b="1" lang="zh-CN" sz="2100" spc="-1" strike="noStrike">
                <a:solidFill>
                  <a:srgbClr val="800000"/>
                </a:solidFill>
                <a:latin typeface="Arial"/>
                <a:ea typeface="宋体"/>
              </a:rPr>
              <a:t>作为第一台临床应用飞秒激光全球装机超过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  <a:ea typeface="宋体"/>
              </a:rPr>
              <a:t>1000</a:t>
            </a:r>
            <a:r>
              <a:rPr b="1" lang="zh-CN" sz="2100" spc="-1" strike="noStrike">
                <a:solidFill>
                  <a:srgbClr val="800000"/>
                </a:solidFill>
                <a:latin typeface="Arial"/>
                <a:ea typeface="宋体"/>
              </a:rPr>
              <a:t>台，手术过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  <a:ea typeface="宋体"/>
              </a:rPr>
              <a:t>200</a:t>
            </a:r>
            <a:r>
              <a:rPr b="1" lang="zh-CN" sz="2100" spc="-1" strike="noStrike">
                <a:solidFill>
                  <a:srgbClr val="800000"/>
                </a:solidFill>
                <a:latin typeface="Arial"/>
                <a:ea typeface="宋体"/>
              </a:rPr>
              <a:t>万例</a:t>
            </a:r>
            <a:endParaRPr b="0" lang="en-US" sz="21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380880" y="3809880"/>
            <a:ext cx="3918240" cy="703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19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宋体"/>
              </a:rPr>
              <a:t>美国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宋体"/>
              </a:rPr>
              <a:t>50%LASIK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宋体"/>
              </a:rPr>
              <a:t>应用飞秒激光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4648320" y="3809880"/>
            <a:ext cx="4267080" cy="703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19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宋体"/>
              </a:rPr>
              <a:t>日本香港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宋体"/>
              </a:rPr>
              <a:t>90%LASIK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  <a:ea typeface="宋体"/>
              </a:rPr>
              <a:t>应用飞秒激光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AutoShape 9"/>
          <p:cNvSpPr/>
          <p:nvPr/>
        </p:nvSpPr>
        <p:spPr>
          <a:xfrm>
            <a:off x="3124080" y="3505320"/>
            <a:ext cx="2952720" cy="57600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576000"/>
              <a:gd name="textAreaBottom" fmla="*/ 205560 h 57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结束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533520" y="1143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宋体"/>
              </a:rPr>
              <a:t>飞秒激光技术，是当今激光眼科学界的前沿技术，也是眼科激光矫治近视手术史上的一次重大革新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4952880" y="4800600"/>
            <a:ext cx="36576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Arial"/>
                <a:ea typeface="宋体"/>
              </a:rPr>
              <a:t>       </a:t>
            </a:r>
            <a:r>
              <a:rPr b="1" lang="zh-CN" sz="2200" spc="-1" strike="noStrike">
                <a:solidFill>
                  <a:srgbClr val="800000"/>
                </a:solidFill>
                <a:latin typeface="Arial"/>
                <a:ea typeface="宋体"/>
              </a:rPr>
              <a:t>随着飞秒激光在国内的普及应用，与之相伴随的超薄瓣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LASIK</a:t>
            </a:r>
            <a:r>
              <a:rPr b="1" lang="zh-CN" sz="2200" spc="-1" strike="noStrike">
                <a:solidFill>
                  <a:srgbClr val="800000"/>
                </a:solidFill>
                <a:latin typeface="Arial"/>
                <a:ea typeface="宋体"/>
              </a:rPr>
              <a:t>，   即飞秒激光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SBK</a:t>
            </a:r>
            <a:r>
              <a:rPr b="1" lang="zh-CN" sz="2200" spc="-1" strike="noStrike">
                <a:solidFill>
                  <a:srgbClr val="800000"/>
                </a:solidFill>
                <a:latin typeface="Arial"/>
                <a:ea typeface="宋体"/>
              </a:rPr>
              <a:t>技术将有极大的发展空间</a:t>
            </a:r>
            <a:r>
              <a:rPr b="0" lang="zh-CN" sz="2200" spc="-1" strike="noStrike">
                <a:solidFill>
                  <a:srgbClr val="800000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  <a:ea typeface="宋体"/>
              </a:rPr>
              <a:t>!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2"/>
          <p:cNvSpPr txBox="1"/>
          <p:nvPr/>
        </p:nvSpPr>
        <p:spPr>
          <a:xfrm>
            <a:off x="2286000" y="3200400"/>
            <a:ext cx="4952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0099cc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0099cc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828440" y="5333760"/>
            <a:ext cx="5465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宋体"/>
              </a:rPr>
              <a:t>Dr.duzhiyu@163.com</a:t>
            </a:r>
            <a:endParaRPr b="0" lang="en-US" sz="3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日期版面配置區 2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9" name="頁尾版面配置區 3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40" name="Picture 2" descr="normal cornea 2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324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human_eye_uncut_side"/>
          <p:cNvPicPr/>
          <p:nvPr/>
        </p:nvPicPr>
        <p:blipFill>
          <a:blip r:embed="rId2"/>
          <a:stretch/>
        </p:blipFill>
        <p:spPr>
          <a:xfrm>
            <a:off x="4762440" y="2205000"/>
            <a:ext cx="3695760" cy="1330200"/>
          </a:xfrm>
          <a:prstGeom prst="rect">
            <a:avLst/>
          </a:prstGeom>
          <a:ln w="0">
            <a:noFill/>
          </a:ln>
        </p:spPr>
      </p:pic>
      <p:sp>
        <p:nvSpPr>
          <p:cNvPr id="442" name="Line 4"/>
          <p:cNvSpPr/>
          <p:nvPr/>
        </p:nvSpPr>
        <p:spPr>
          <a:xfrm>
            <a:off x="2214720" y="4175280"/>
            <a:ext cx="6120" cy="2663640"/>
          </a:xfrm>
          <a:prstGeom prst="line">
            <a:avLst/>
          </a:prstGeom>
          <a:ln w="38160">
            <a:solidFill>
              <a:srgbClr val="99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3365640" y="5180040"/>
            <a:ext cx="9360" cy="16779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4133880" y="5934240"/>
            <a:ext cx="57240" cy="923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1905480" y="1523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33"/>
                </a:solidFill>
                <a:latin typeface="Times New Roman"/>
                <a:ea typeface="宋体"/>
              </a:rPr>
              <a:t>14%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3115080" y="15447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25%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3540600" y="18892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  <a:ea typeface="宋体"/>
              </a:rPr>
              <a:t>29%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3875400" y="22953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33%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1829160" y="3581280"/>
            <a:ext cx="7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33"/>
                </a:solidFill>
                <a:latin typeface="Times New Roman"/>
                <a:ea typeface="宋体"/>
              </a:rPr>
              <a:t>80</a:t>
            </a:r>
            <a:r>
              <a:rPr b="1" lang="en-GB" sz="2000" spc="-1" strike="noStrike">
                <a:solidFill>
                  <a:srgbClr val="99ff33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>
                <a:solidFill>
                  <a:srgbClr val="99ff33"/>
                </a:solidFill>
                <a:latin typeface="Times New Roman"/>
                <a:ea typeface="宋体"/>
              </a:rPr>
              <a:t>m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3076560" y="455436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140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m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3436920" y="496260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Times New Roman"/>
                <a:ea typeface="宋体"/>
              </a:rPr>
              <a:t>160</a:t>
            </a:r>
            <a:r>
              <a:rPr b="1" lang="en-GB" sz="2000" spc="-1" strike="noStrike">
                <a:solidFill>
                  <a:srgbClr val="ff00ff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>
                <a:solidFill>
                  <a:srgbClr val="ff00ff"/>
                </a:solidFill>
                <a:latin typeface="Times New Roman"/>
                <a:ea typeface="宋体"/>
              </a:rPr>
              <a:t>m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3838680" y="537228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180</a:t>
            </a:r>
            <a:r>
              <a:rPr b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m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3" name="Line 15"/>
          <p:cNvSpPr/>
          <p:nvPr/>
        </p:nvSpPr>
        <p:spPr>
          <a:xfrm>
            <a:off x="2209680" y="1981080"/>
            <a:ext cx="1800" cy="1717920"/>
          </a:xfrm>
          <a:prstGeom prst="line">
            <a:avLst/>
          </a:prstGeom>
          <a:ln w="38160">
            <a:solidFill>
              <a:srgbClr val="99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4" name="Line 16"/>
          <p:cNvSpPr/>
          <p:nvPr/>
        </p:nvSpPr>
        <p:spPr>
          <a:xfrm>
            <a:off x="3365640" y="2227320"/>
            <a:ext cx="1440" cy="22035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>
            <a:off x="3751200" y="5557680"/>
            <a:ext cx="1800" cy="12938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6" name="Line 18"/>
          <p:cNvSpPr/>
          <p:nvPr/>
        </p:nvSpPr>
        <p:spPr>
          <a:xfrm>
            <a:off x="3745080" y="2563920"/>
            <a:ext cx="6120" cy="19382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4129200" y="2935440"/>
            <a:ext cx="4680" cy="1927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Text Box 20"/>
          <p:cNvSpPr/>
          <p:nvPr/>
        </p:nvSpPr>
        <p:spPr>
          <a:xfrm>
            <a:off x="5407200" y="388620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Loss of Strengt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2590920" y="2286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角膜张力的改变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日期版面配置區 2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頁尾版面配置區 3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2" name="Picture 2" descr="Figure7"/>
          <p:cNvPicPr/>
          <p:nvPr/>
        </p:nvPicPr>
        <p:blipFill>
          <a:blip r:embed="rId1"/>
          <a:stretch/>
        </p:blipFill>
        <p:spPr>
          <a:xfrm>
            <a:off x="4057560" y="1486080"/>
            <a:ext cx="5073840" cy="3912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normal cornea"/>
          <p:cNvPicPr/>
          <p:nvPr/>
        </p:nvPicPr>
        <p:blipFill>
          <a:blip r:embed="rId2"/>
          <a:stretch/>
        </p:blipFill>
        <p:spPr>
          <a:xfrm>
            <a:off x="0" y="0"/>
            <a:ext cx="408312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4"/>
          <p:cNvSpPr/>
          <p:nvPr/>
        </p:nvSpPr>
        <p:spPr>
          <a:xfrm>
            <a:off x="0" y="1082520"/>
            <a:ext cx="4076640" cy="2232360"/>
          </a:xfrm>
          <a:prstGeom prst="rect">
            <a:avLst/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816480" y="170028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ff33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强壮</a:t>
            </a:r>
            <a:r>
              <a:rPr b="1" lang="en-GB" sz="3600" spc="-1" strike="noStrike">
                <a:solidFill>
                  <a:srgbClr val="99ff33"/>
                </a:solidFill>
                <a:latin typeface="Arial"/>
                <a:ea typeface="宋体"/>
              </a:rPr>
              <a:t>”</a:t>
            </a:r>
            <a:r>
              <a:rPr b="1" lang="zh-CN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角膜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894240" y="458136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ff33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脆弱</a:t>
            </a:r>
            <a:r>
              <a:rPr b="1" lang="en-GB" sz="3600" spc="-1" strike="noStrike">
                <a:solidFill>
                  <a:srgbClr val="99ff33"/>
                </a:solidFill>
                <a:latin typeface="Arial"/>
                <a:ea typeface="宋体"/>
              </a:rPr>
              <a:t>”</a:t>
            </a:r>
            <a:r>
              <a:rPr b="1" lang="zh-CN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角膜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0" y="3314880"/>
            <a:ext cx="4059360" cy="0"/>
          </a:xfrm>
          <a:prstGeom prst="line">
            <a:avLst/>
          </a:prstGeom>
          <a:ln w="38160">
            <a:solidFill>
              <a:srgbClr val="1d528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1229040" y="234936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160 </a:t>
            </a:r>
            <a:r>
              <a:rPr b="1" lang="en-GB" sz="3600" spc="-1" strike="noStrike">
                <a:solidFill>
                  <a:srgbClr val="99ff33"/>
                </a:solidFill>
                <a:latin typeface="Symbol"/>
                <a:ea typeface="Symbol"/>
              </a:rPr>
              <a:t></a:t>
            </a:r>
            <a:r>
              <a:rPr b="1" lang="en-GB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m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1229040" y="530064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340 </a:t>
            </a:r>
            <a:r>
              <a:rPr b="1" lang="en-GB" sz="3600" spc="-1" strike="noStrike">
                <a:solidFill>
                  <a:srgbClr val="99ff33"/>
                </a:solidFill>
                <a:latin typeface="Symbol"/>
                <a:ea typeface="Symbol"/>
              </a:rPr>
              <a:t></a:t>
            </a:r>
            <a:r>
              <a:rPr b="1" lang="en-GB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m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0" name="Oval 10"/>
          <p:cNvSpPr/>
          <p:nvPr/>
        </p:nvSpPr>
        <p:spPr>
          <a:xfrm>
            <a:off x="4508640" y="1305000"/>
            <a:ext cx="3840120" cy="3924360"/>
          </a:xfrm>
          <a:prstGeom prst="ellipse">
            <a:avLst/>
          </a:prstGeom>
          <a:noFill/>
          <a:ln w="38160">
            <a:solidFill>
              <a:srgbClr val="1d528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1" name="Oval 11"/>
          <p:cNvSpPr/>
          <p:nvPr/>
        </p:nvSpPr>
        <p:spPr>
          <a:xfrm>
            <a:off x="4987800" y="1808280"/>
            <a:ext cx="2880000" cy="2916000"/>
          </a:xfrm>
          <a:prstGeom prst="ellipse">
            <a:avLst/>
          </a:prstGeom>
          <a:noFill/>
          <a:ln w="38160">
            <a:solidFill>
              <a:srgbClr val="1d528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Line 12"/>
          <p:cNvSpPr/>
          <p:nvPr/>
        </p:nvSpPr>
        <p:spPr>
          <a:xfrm flipV="1">
            <a:off x="4956120" y="333000"/>
            <a:ext cx="0" cy="287964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Line 13"/>
          <p:cNvSpPr/>
          <p:nvPr/>
        </p:nvSpPr>
        <p:spPr>
          <a:xfrm flipV="1">
            <a:off x="7869240" y="333000"/>
            <a:ext cx="0" cy="287964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Line 14"/>
          <p:cNvSpPr/>
          <p:nvPr/>
        </p:nvSpPr>
        <p:spPr>
          <a:xfrm flipV="1">
            <a:off x="4476600" y="3213000"/>
            <a:ext cx="0" cy="288000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Line 15"/>
          <p:cNvSpPr/>
          <p:nvPr/>
        </p:nvSpPr>
        <p:spPr>
          <a:xfrm flipV="1">
            <a:off x="8348760" y="3213000"/>
            <a:ext cx="0" cy="288000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5217120" y="38088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“</a:t>
            </a:r>
            <a:r>
              <a:rPr b="1" lang="zh-CN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脆弱”角膜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5167800" y="558972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“</a:t>
            </a:r>
            <a:r>
              <a:rPr b="1" lang="zh-CN" sz="3600" spc="-1" strike="noStrike">
                <a:solidFill>
                  <a:srgbClr val="99ff33"/>
                </a:solidFill>
                <a:latin typeface="Times New Roman"/>
                <a:ea typeface="宋体"/>
              </a:rPr>
              <a:t>强壮”角膜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Text Box 18"/>
          <p:cNvSpPr/>
          <p:nvPr/>
        </p:nvSpPr>
        <p:spPr>
          <a:xfrm>
            <a:off x="5811840" y="87480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ff33"/>
                </a:solidFill>
                <a:latin typeface="Times New Roman"/>
                <a:ea typeface="宋体"/>
              </a:rPr>
              <a:t>6 mm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5540760" y="617688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ff33"/>
                </a:solidFill>
                <a:latin typeface="Times New Roman"/>
                <a:ea typeface="宋体"/>
              </a:rPr>
              <a:t>8-12 mm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版面配置區 5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頁尾版面配置區 6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4720" y="270792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LASIK</a:t>
            </a:r>
            <a:r>
              <a:rPr b="1" lang="zh-TW" sz="2800" spc="-1" strike="noStrike">
                <a:solidFill>
                  <a:srgbClr val="003399"/>
                </a:solidFill>
                <a:latin typeface="Arial"/>
              </a:rPr>
              <a:t>术后角膜生物力学改变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63040" y="-360"/>
            <a:ext cx="858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Verdana"/>
              </a:rPr>
              <a:t>目前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ASIK</a:t>
            </a:r>
            <a:r>
              <a:rPr b="0" lang="zh-TW" sz="2400" spc="-1" strike="noStrike">
                <a:solidFill>
                  <a:srgbClr val="ffffff"/>
                </a:solidFill>
                <a:latin typeface="Verdana"/>
              </a:rPr>
              <a:t>手术最引人关注的话题之一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疑问图片"/>
          <p:cNvPicPr/>
          <p:nvPr/>
        </p:nvPicPr>
        <p:blipFill>
          <a:blip r:embed="rId1"/>
          <a:stretch/>
        </p:blipFill>
        <p:spPr>
          <a:xfrm>
            <a:off x="1116000" y="1701720"/>
            <a:ext cx="273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日期版面配置區 5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頁尾版面配置區 6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6" name="Picture 2" descr="shadow"/>
          <p:cNvPicPr/>
          <p:nvPr/>
        </p:nvPicPr>
        <p:blipFill>
          <a:blip r:embed="rId1"/>
          <a:stretch/>
        </p:blipFill>
        <p:spPr>
          <a:xfrm>
            <a:off x="1560600" y="3622680"/>
            <a:ext cx="1832040" cy="2952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1403280" y="1630440"/>
            <a:ext cx="3851280" cy="93168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371600" y="3048120"/>
            <a:ext cx="3816360" cy="93024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 rot="21540000">
            <a:off x="1331640" y="4581360"/>
            <a:ext cx="3811680" cy="100332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324480" y="2514600"/>
            <a:ext cx="2376720" cy="201780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  <a:ea typeface="宋体"/>
              </a:rPr>
              <a:t>显著影响角膜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  <a:ea typeface="宋体"/>
              </a:rPr>
              <a:t>吸收或消散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  <a:ea typeface="宋体"/>
              </a:rPr>
              <a:t>量的能力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1" name="Picture 7" descr="shadow"/>
          <p:cNvPicPr/>
          <p:nvPr/>
        </p:nvPicPr>
        <p:blipFill>
          <a:blip r:embed="rId2"/>
          <a:stretch/>
        </p:blipFill>
        <p:spPr>
          <a:xfrm>
            <a:off x="1332000" y="5734080"/>
            <a:ext cx="3995640" cy="26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shadow"/>
          <p:cNvPicPr/>
          <p:nvPr/>
        </p:nvPicPr>
        <p:blipFill>
          <a:blip r:embed="rId3"/>
          <a:stretch/>
        </p:blipFill>
        <p:spPr>
          <a:xfrm>
            <a:off x="1692360" y="2602080"/>
            <a:ext cx="3384360" cy="26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shadow"/>
          <p:cNvPicPr/>
          <p:nvPr/>
        </p:nvPicPr>
        <p:blipFill>
          <a:blip r:embed="rId4"/>
          <a:stretch/>
        </p:blipFill>
        <p:spPr>
          <a:xfrm>
            <a:off x="1260360" y="4221000"/>
            <a:ext cx="4032360" cy="268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shadow"/>
          <p:cNvPicPr/>
          <p:nvPr/>
        </p:nvPicPr>
        <p:blipFill>
          <a:blip r:embed="rId5"/>
          <a:stretch/>
        </p:blipFill>
        <p:spPr>
          <a:xfrm>
            <a:off x="6443640" y="4703760"/>
            <a:ext cx="1692360" cy="295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1981080" y="1905120"/>
            <a:ext cx="24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Arial"/>
                <a:ea typeface="宋体"/>
              </a:rPr>
              <a:t>角膜瓣的制作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752480" y="3276720"/>
            <a:ext cx="2973600" cy="535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Arial"/>
                <a:ea typeface="宋体"/>
              </a:rPr>
              <a:t>角膜基质的切削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600200" y="4648320"/>
            <a:ext cx="3489480" cy="947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瓣的制作、基质切削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综合作用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 rot="13260000">
            <a:off x="5111280" y="3104640"/>
            <a:ext cx="828720" cy="93672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1219320" y="0"/>
            <a:ext cx="648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IK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术后角膜生物力学改变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日期版面配置區 5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頁尾版面配置區 6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9800" y="1162080"/>
            <a:ext cx="82440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d528d"/>
                </a:solidFill>
                <a:latin typeface="Arial"/>
              </a:rPr>
              <a:t>临床资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3e"/>
                </a:solidFill>
                <a:latin typeface="宋体"/>
                <a:ea typeface="宋体"/>
              </a:rPr>
              <a:t>43</a:t>
            </a:r>
            <a:r>
              <a:rPr b="1" lang="zh-TW" sz="2000" spc="-1" strike="noStrike">
                <a:solidFill>
                  <a:srgbClr val="00243e"/>
                </a:solidFill>
                <a:latin typeface="宋体"/>
              </a:rPr>
              <a:t>名患者接受了波前引导</a:t>
            </a:r>
            <a:r>
              <a:rPr b="1" lang="en-US" sz="2000" spc="-1" strike="noStrike">
                <a:solidFill>
                  <a:srgbClr val="00243e"/>
                </a:solidFill>
                <a:latin typeface="宋体"/>
                <a:ea typeface="宋体"/>
              </a:rPr>
              <a:t>LASIK</a:t>
            </a:r>
            <a:r>
              <a:rPr b="1" lang="zh-TW" sz="2000" spc="-1" strike="noStrike">
                <a:solidFill>
                  <a:srgbClr val="00243e"/>
                </a:solidFill>
                <a:latin typeface="宋体"/>
              </a:rPr>
              <a:t>并用</a:t>
            </a:r>
            <a:r>
              <a:rPr b="1" lang="en-US" sz="2000" spc="-1" strike="noStrike">
                <a:solidFill>
                  <a:srgbClr val="00243e"/>
                </a:solidFill>
                <a:latin typeface="宋体"/>
                <a:ea typeface="宋体"/>
              </a:rPr>
              <a:t>Moria130</a:t>
            </a:r>
            <a:r>
              <a:rPr b="1" lang="zh-CN" sz="2000" spc="-1" strike="noStrike">
                <a:solidFill>
                  <a:srgbClr val="00243e"/>
                </a:solidFill>
                <a:latin typeface="宋体"/>
                <a:ea typeface="宋体"/>
              </a:rPr>
              <a:t>刀头制做角膜瓣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43e"/>
                </a:solidFill>
                <a:latin typeface="宋体"/>
              </a:rPr>
              <a:t>用</a:t>
            </a:r>
            <a:r>
              <a:rPr b="1" lang="en-US" sz="2000" spc="-1" strike="noStrike">
                <a:solidFill>
                  <a:srgbClr val="00243e"/>
                </a:solidFill>
                <a:latin typeface="Times New Roman"/>
                <a:ea typeface="宋体"/>
              </a:rPr>
              <a:t>Ocular Respose Analyzer</a:t>
            </a:r>
            <a:r>
              <a:rPr b="1" lang="en-US" sz="2000" spc="-1" strike="noStrike">
                <a:solidFill>
                  <a:srgbClr val="00243e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243e"/>
                </a:solidFill>
                <a:latin typeface="Times New Roman"/>
                <a:ea typeface="宋体"/>
              </a:rPr>
              <a:t>ORA,Reichert</a:t>
            </a:r>
            <a:r>
              <a:rPr b="1" lang="zh-TW" sz="2000" spc="-1" strike="noStrike">
                <a:solidFill>
                  <a:srgbClr val="00243e"/>
                </a:solidFill>
                <a:latin typeface="宋体"/>
              </a:rPr>
              <a:t>产</a:t>
            </a:r>
            <a:r>
              <a:rPr b="1" lang="en-US" sz="2000" spc="-1" strike="noStrike">
                <a:solidFill>
                  <a:srgbClr val="00243e"/>
                </a:solidFill>
                <a:latin typeface="宋体"/>
                <a:ea typeface="宋体"/>
              </a:rPr>
              <a:t>)</a:t>
            </a:r>
            <a:r>
              <a:rPr b="1" lang="zh-TW" sz="2000" spc="-1" strike="noStrike">
                <a:solidFill>
                  <a:srgbClr val="00243e"/>
                </a:solidFill>
                <a:latin typeface="宋体"/>
              </a:rPr>
              <a:t>测量角膜滞后量</a:t>
            </a:r>
            <a:r>
              <a:rPr b="1" lang="zh-TW" sz="2000" spc="-1" strike="noStrike">
                <a:solidFill>
                  <a:srgbClr val="00243e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243e"/>
                </a:solidFill>
                <a:latin typeface="Times New Roman"/>
                <a:ea typeface="宋体"/>
              </a:rPr>
              <a:t>corneal hysteresis</a:t>
            </a:r>
            <a:r>
              <a:rPr b="1" lang="zh-TW" sz="2000" spc="-1" strike="noStrike">
                <a:solidFill>
                  <a:srgbClr val="00243e"/>
                </a:solidFill>
                <a:latin typeface="Times New Roman"/>
              </a:rPr>
              <a:t>）</a:t>
            </a:r>
            <a:r>
              <a:rPr b="1" lang="zh-TW" sz="2000" spc="-1" strike="noStrike">
                <a:solidFill>
                  <a:srgbClr val="00243e"/>
                </a:solidFill>
                <a:latin typeface="宋体"/>
              </a:rPr>
              <a:t>及角膜阻力因子量（</a:t>
            </a:r>
            <a:r>
              <a:rPr b="1" lang="en-US" sz="2000" spc="-1" strike="noStrike">
                <a:solidFill>
                  <a:srgbClr val="00243e"/>
                </a:solidFill>
                <a:latin typeface="宋体"/>
                <a:ea typeface="宋体"/>
              </a:rPr>
              <a:t>corneal </a:t>
            </a:r>
            <a:r>
              <a:rPr b="1" lang="en-US" sz="2000" spc="-1" strike="noStrike">
                <a:solidFill>
                  <a:srgbClr val="00243e"/>
                </a:solidFill>
                <a:latin typeface="Times New Roman"/>
                <a:ea typeface="宋体"/>
              </a:rPr>
              <a:t>resistance factor</a:t>
            </a:r>
            <a:r>
              <a:rPr b="1" lang="zh-TW" sz="2000" spc="-1" strike="noStrike">
                <a:solidFill>
                  <a:srgbClr val="00243e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43e"/>
                </a:solidFill>
                <a:latin typeface="宋体"/>
              </a:rPr>
              <a:t>未观察到角膜滞后量、角膜阻力因子量与术前角膜中央厚度有关联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3048120"/>
          <a:ext cx="7599240" cy="1763640"/>
        </p:xfrm>
        <a:graphic>
          <a:graphicData uri="http://schemas.openxmlformats.org/drawingml/2006/table">
            <a:tbl>
              <a:tblPr/>
              <a:tblGrid>
                <a:gridCol w="7599240"/>
              </a:tblGrid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corneal hysteresis     corneal resistance factor                                         (mean)                (mean)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1d528d"/>
                          </a:solidFill>
                          <a:latin typeface="宋体"/>
                        </a:rPr>
                        <a:t>术前      </a:t>
                      </a: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宋体"/>
                          <a:ea typeface="新細明體"/>
                        </a:rPr>
                        <a:t>11.52mmHg           11.68mmHg        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1d528d"/>
                          </a:solidFill>
                          <a:latin typeface="宋体"/>
                        </a:rPr>
                        <a:t>术后       </a:t>
                      </a: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宋体"/>
                          <a:ea typeface="新細明體"/>
                        </a:rPr>
                        <a:t>9.48mmHg            8.47mmHg        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13"/>
          <p:cNvSpPr/>
          <p:nvPr/>
        </p:nvSpPr>
        <p:spPr>
          <a:xfrm>
            <a:off x="762120" y="53341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0.000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1295280" y="15228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新細明體"/>
              </a:rPr>
              <a:t>LASIK</a:t>
            </a:r>
            <a:r>
              <a:rPr b="0" lang="zh-TW" sz="3200" spc="-1" strike="noStrike">
                <a:solidFill>
                  <a:srgbClr val="ffffff"/>
                </a:solidFill>
                <a:latin typeface="Verdana"/>
              </a:rPr>
              <a:t>术后角膜生物力学改变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  识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角膜浅基质层板层纤维结构致密，对于维持角膜抗张力起到十分重要的作用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角膜瓣厚度为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80μm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时，角膜张力丧失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14%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角膜瓣厚度为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140μm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时，角膜张力丧失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25%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角膜瓣厚度为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160μm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180μm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时，角膜张力丧失可以达到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问题的解决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be7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6" name="Group 10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27" name="Oval 11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3e3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Oval 12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ec7c7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29" name="Oval 13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Oval 14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a6db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0079a2"/>
                </a:gs>
                <a:gs pos="100000">
                  <a:srgbClr val="0099cc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3" name="Text Box 17"/>
          <p:cNvSpPr/>
          <p:nvPr/>
        </p:nvSpPr>
        <p:spPr>
          <a:xfrm>
            <a:off x="3980160" y="157644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手术方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选择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 flipH="1">
            <a:off x="4799880" y="3124080"/>
            <a:ext cx="903240" cy="124164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ae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1066680" y="2590920"/>
            <a:ext cx="2170080" cy="4034880"/>
            <a:chOff x="1066680" y="2590920"/>
            <a:chExt cx="2170080" cy="4034880"/>
          </a:xfrm>
        </p:grpSpPr>
        <p:sp>
          <p:nvSpPr>
            <p:cNvPr id="136" name="AutoShape 24"/>
            <p:cNvSpPr/>
            <p:nvPr/>
          </p:nvSpPr>
          <p:spPr>
            <a:xfrm>
              <a:off x="1066680" y="289836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AutoShape 25"/>
            <p:cNvSpPr/>
            <p:nvPr/>
          </p:nvSpPr>
          <p:spPr>
            <a:xfrm>
              <a:off x="1100160" y="290664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1117440" y="497016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7"/>
            <p:cNvSpPr/>
            <p:nvPr/>
          </p:nvSpPr>
          <p:spPr>
            <a:xfrm>
              <a:off x="1117440" y="29286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>
              <a:off x="1073160" y="575604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29"/>
            <p:cNvSpPr/>
            <p:nvPr/>
          </p:nvSpPr>
          <p:spPr>
            <a:xfrm>
              <a:off x="1117440" y="57798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2" name="Group 30"/>
            <p:cNvGrpSpPr/>
            <p:nvPr/>
          </p:nvGrpSpPr>
          <p:grpSpPr>
            <a:xfrm>
              <a:off x="1811160" y="2590920"/>
              <a:ext cx="642960" cy="642600"/>
              <a:chOff x="1811160" y="2590920"/>
              <a:chExt cx="642960" cy="642600"/>
            </a:xfrm>
          </p:grpSpPr>
          <p:sp>
            <p:nvSpPr>
              <p:cNvPr id="143" name="Oval 31"/>
              <p:cNvSpPr/>
              <p:nvPr/>
            </p:nvSpPr>
            <p:spPr>
              <a:xfrm>
                <a:off x="1811160" y="259092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4" name="Oval 32"/>
              <p:cNvSpPr/>
              <p:nvPr/>
            </p:nvSpPr>
            <p:spPr>
              <a:xfrm>
                <a:off x="1817640" y="259560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5" name="Oval 33"/>
              <p:cNvSpPr/>
              <p:nvPr/>
            </p:nvSpPr>
            <p:spPr>
              <a:xfrm>
                <a:off x="1825560" y="25995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6" name="Oval 34"/>
              <p:cNvSpPr/>
              <p:nvPr/>
            </p:nvSpPr>
            <p:spPr>
              <a:xfrm>
                <a:off x="1832040" y="260496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7" name="Oval 35"/>
              <p:cNvSpPr/>
              <p:nvPr/>
            </p:nvSpPr>
            <p:spPr>
              <a:xfrm>
                <a:off x="1865880" y="262080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8" name="Text Box 36"/>
            <p:cNvSpPr/>
            <p:nvPr/>
          </p:nvSpPr>
          <p:spPr>
            <a:xfrm>
              <a:off x="1951200" y="268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1143000" y="3352680"/>
              <a:ext cx="2057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角膜表层切削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0" name="AutoShape 39"/>
          <p:cNvSpPr/>
          <p:nvPr/>
        </p:nvSpPr>
        <p:spPr>
          <a:xfrm>
            <a:off x="5638680" y="289872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AutoShape 40"/>
          <p:cNvSpPr/>
          <p:nvPr/>
        </p:nvSpPr>
        <p:spPr>
          <a:xfrm>
            <a:off x="5672160" y="29066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AutoShape 41"/>
          <p:cNvSpPr/>
          <p:nvPr/>
        </p:nvSpPr>
        <p:spPr>
          <a:xfrm>
            <a:off x="5689440" y="49705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AutoShape 42"/>
          <p:cNvSpPr/>
          <p:nvPr/>
        </p:nvSpPr>
        <p:spPr>
          <a:xfrm>
            <a:off x="5689440" y="29289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Oval 43"/>
          <p:cNvSpPr/>
          <p:nvPr/>
        </p:nvSpPr>
        <p:spPr>
          <a:xfrm>
            <a:off x="6383160" y="25909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Oval 44"/>
          <p:cNvSpPr/>
          <p:nvPr/>
        </p:nvSpPr>
        <p:spPr>
          <a:xfrm>
            <a:off x="6389640" y="25956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Oval 45"/>
          <p:cNvSpPr/>
          <p:nvPr/>
        </p:nvSpPr>
        <p:spPr>
          <a:xfrm>
            <a:off x="6397560" y="25988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Oval 46"/>
          <p:cNvSpPr/>
          <p:nvPr/>
        </p:nvSpPr>
        <p:spPr>
          <a:xfrm>
            <a:off x="6404040" y="2604960"/>
            <a:ext cx="577800" cy="56700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Oval 47"/>
          <p:cNvSpPr/>
          <p:nvPr/>
        </p:nvSpPr>
        <p:spPr>
          <a:xfrm>
            <a:off x="6438960" y="26208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Text Box 48"/>
          <p:cNvSpPr/>
          <p:nvPr/>
        </p:nvSpPr>
        <p:spPr>
          <a:xfrm>
            <a:off x="6523560" y="268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5715000" y="335268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SBK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宋体"/>
              </a:rPr>
              <a:t>手术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宋体"/>
              </a:rPr>
              <a:t>(sub-bowman keratomileusis)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AutoShape 50"/>
          <p:cNvSpPr/>
          <p:nvPr/>
        </p:nvSpPr>
        <p:spPr>
          <a:xfrm>
            <a:off x="5641920" y="5756400"/>
            <a:ext cx="2163960" cy="86976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58a4a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AutoShape 51"/>
          <p:cNvSpPr/>
          <p:nvPr/>
        </p:nvSpPr>
        <p:spPr>
          <a:xfrm>
            <a:off x="5686560" y="5780160"/>
            <a:ext cx="2070000" cy="772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2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5" name="Picture 1028" descr="疑问图片"/>
          <p:cNvPicPr/>
          <p:nvPr/>
        </p:nvPicPr>
        <p:blipFill>
          <a:blip r:embed="rId1"/>
          <a:stretch/>
        </p:blipFill>
        <p:spPr>
          <a:xfrm>
            <a:off x="5638680" y="20574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前弹力层下角膜切削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SBK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通俗的讲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SBK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就是前弹力层下的超薄瓣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LASIK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制瓣方式有两种：        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超薄瓣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机械刀完成制瓣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BK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飞秒激光制瓣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BK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目前飞秒激光用于临床的产品主要是美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M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公司成产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intralase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飞秒激光。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版面配置區 4"/>
          <p:cNvSpPr/>
          <p:nvPr/>
        </p:nvSpPr>
        <p:spPr>
          <a:xfrm>
            <a:off x="0" y="83808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頁尾版面配置區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172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73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174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6b8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c7e3"/>
                  </a:gs>
                  <a:gs pos="50000">
                    <a:srgbClr val="0099cc">
                      <a:alpha val="0"/>
                    </a:srgbClr>
                  </a:gs>
                  <a:gs pos="100000">
                    <a:srgbClr val="74c7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166840" y="19328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77" name="Text Box 9"/>
            <p:cNvSpPr/>
            <p:nvPr/>
          </p:nvSpPr>
          <p:spPr>
            <a:xfrm>
              <a:off x="3090240" y="1725120"/>
              <a:ext cx="431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78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179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80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181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6a3a3"/>
                  </a:gs>
                  <a:gs pos="100000">
                    <a:srgbClr val="0080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c9c9"/>
                  </a:gs>
                  <a:gs pos="100000">
                    <a:srgbClr val="00808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Text Box 15"/>
              <p:cNvSpPr/>
              <p:nvPr/>
            </p:nvSpPr>
            <p:spPr>
              <a:xfrm>
                <a:off x="2166840" y="34646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3090240" y="3232440"/>
              <a:ext cx="4312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186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87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188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0" name="Text Box 22"/>
              <p:cNvSpPr/>
              <p:nvPr/>
            </p:nvSpPr>
            <p:spPr>
              <a:xfrm>
                <a:off x="2166840" y="5004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91" name="Text Box 23"/>
            <p:cNvSpPr/>
            <p:nvPr/>
          </p:nvSpPr>
          <p:spPr>
            <a:xfrm>
              <a:off x="3090240" y="4772520"/>
              <a:ext cx="4312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2" name="Text Box 24"/>
          <p:cNvSpPr/>
          <p:nvPr/>
        </p:nvSpPr>
        <p:spPr>
          <a:xfrm>
            <a:off x="3124080" y="1905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飞秒激光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宋体"/>
              </a:rPr>
              <a:t>SBK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之优势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3276720" y="33526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飞秒激光的手术效果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971800" y="5029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飞秒激光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宋体"/>
              </a:rPr>
              <a:t>SBK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的手术安全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cp:keywords/>
  <dc:language>en-US</dc:language>
  <cp:lastModifiedBy>Chao Kai</cp:lastModifiedBy>
  <cp:lastPrinted>1899-12-30T00:00:00Z</cp:lastPrinted>
  <dcterms:modified xsi:type="dcterms:W3CDTF">2010-07-23T16:45:49Z</dcterms:modified>
  <cp:revision>11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