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E6CC-F904-4330-9CAF-8508BA8B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623-1256-4141-8C33-ED87D31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B7C-D85B-42AD-B91C-0986DF83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701-5877-4C9F-8AD6-F689E4F6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353-7313-4574-9681-F2593D1F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CE16-A80B-4917-AFFC-D0E68FA2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85B5-459B-47C6-9A66-047EBD1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A716-E382-448C-8756-8C7DCCA6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EC9D-C08D-4024-B88C-B16EE7DB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0C84-72BF-48F4-BAA6-19C73B43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FF2C-B9C0-4D40-A9D8-2523A4F4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C2A-965C-450B-A4D8-DCA1515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F14-1512-4E1F-A36F-4E855A7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AD0B-5D0A-4025-A9AD-C5CCD47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B6B-7D23-442B-ACDF-C43913E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7EF7-BC7F-4766-96A2-09E77FBD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A535-FE64-4F74-91C4-14B33258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CBC-28E4-4BE8-A6A6-10220FAD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67F5-EBBE-4FA5-8F68-825FB7DA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128-03BA-4042-96D9-AE2F693A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B9E-F3D0-4015-8A5D-77C419B2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7F2-5044-4BBB-B2C8-E2840A2C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000-8F00-4252-B5A7-E846CF95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02B-84E2-4349-9752-FD80E699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13a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9E30-0466-4E09-901B-6359283F02CA}" type="slidenum">
              <a:rPr b="0" lang="en-US" sz="1400" spc="-1" strike="noStrike">
                <a:solidFill>
                  <a:srgbClr val="006699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0" descr="PUMCH"/>
          <p:cNvPicPr/>
          <p:nvPr/>
        </p:nvPicPr>
        <p:blipFill>
          <a:blip r:embed="rId2"/>
          <a:stretch/>
        </p:blipFill>
        <p:spPr>
          <a:xfrm>
            <a:off x="7667640" y="5622840"/>
            <a:ext cx="1332000" cy="114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6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7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5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9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3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" name="Picture 49" descr="PUMCH"/>
          <p:cNvPicPr/>
          <p:nvPr/>
        </p:nvPicPr>
        <p:blipFill>
          <a:blip r:embed="rId2"/>
          <a:stretch/>
        </p:blipFill>
        <p:spPr>
          <a:xfrm>
            <a:off x="7667640" y="5622840"/>
            <a:ext cx="1332000" cy="1147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613a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55A-6CCD-4642-8138-19FB049B0352}" type="slidenum">
              <a:rPr b="0" lang="en-US" sz="1400" spc="-1" strike="noStrike">
                <a:solidFill>
                  <a:srgbClr val="006699"/>
                </a:solidFill>
                <a:latin typeface="Verdan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99360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613ad"/>
                </a:solidFill>
                <a:latin typeface="Times New Roman"/>
              </a:rPr>
              <a:t>高度近视眼与玻璃体视网膜病变</a:t>
            </a:r>
            <a:br>
              <a:rPr sz="4800"/>
            </a:br>
            <a:r>
              <a:rPr b="1" lang="en-US" sz="3200" spc="-1" strike="noStrike">
                <a:solidFill>
                  <a:srgbClr val="7613ad"/>
                </a:solidFill>
                <a:latin typeface="Times New Roman"/>
              </a:rPr>
              <a:t>Vitreoretinopathy in Patients with High Myopia</a:t>
            </a:r>
            <a:endParaRPr b="0" lang="en-US" sz="32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050920" y="3645000"/>
            <a:ext cx="55454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Verdana"/>
                <a:ea typeface="华文中宋"/>
              </a:rPr>
              <a:t>叶 俊 杰</a:t>
            </a:r>
            <a:endParaRPr b="0" lang="en-US" sz="40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中宋"/>
                <a:ea typeface="华文中宋"/>
              </a:rPr>
              <a:t>中国医学科学院    眼科研究中心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华文中宋"/>
                <a:ea typeface="华文中宋"/>
              </a:rPr>
              <a:t>中国协和医科大学    北京协和医院眼科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 </a:t>
            </a:r>
            <a:endParaRPr b="0" lang="en-US" sz="12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010.6.20.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台北</a:t>
            </a:r>
            <a:r>
              <a:rPr b="0" lang="zh-CN" sz="20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                                        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 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华文中宋"/>
              </a:rPr>
              <a:t>	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indent="0" algn="ctr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3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200" spc="-1" strike="noStrike">
                <a:solidFill>
                  <a:srgbClr val="003399"/>
                </a:solidFill>
                <a:latin typeface="华文中宋"/>
                <a:ea typeface="华文中宋"/>
              </a:rPr>
              <a:t>                                                               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 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r>
              <a:rPr b="0" lang="zh-CN" sz="1400" spc="-1" strike="noStrike">
                <a:solidFill>
                  <a:srgbClr val="003399"/>
                </a:solidFill>
                <a:latin typeface="华文中宋"/>
                <a:ea typeface="华文中宋"/>
              </a:rPr>
              <a:t>	</a:t>
            </a: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999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PVD</a:t>
            </a: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临床表现及并发症</a:t>
            </a:r>
            <a:r>
              <a:rPr b="0" lang="zh-CN" sz="3200" spc="-1" strike="noStrike">
                <a:solidFill>
                  <a:srgbClr val="7613ad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35120" y="2133720"/>
            <a:ext cx="5889600" cy="31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 algn="just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临 床 表 现 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  <a:p>
            <a:pPr marL="41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眼前漂浮物、闪光感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41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415800" indent="-415800" algn="just">
              <a:lnSpc>
                <a:spcPct val="100000"/>
              </a:lnSpc>
              <a:spcBef>
                <a:spcPts val="9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华文中宋"/>
                <a:ea typeface="华文中宋"/>
              </a:rPr>
              <a:t>并 发 症</a:t>
            </a:r>
            <a:endParaRPr b="0" lang="en-US" sz="3600" spc="-1" strike="noStrike">
              <a:solidFill>
                <a:srgbClr val="0000cc"/>
              </a:solidFill>
              <a:latin typeface="Verdana"/>
            </a:endParaRPr>
          </a:p>
          <a:p>
            <a:pPr marL="41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玻璃体牵拉视网膜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视网膜裂孔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41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	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视网膜脱离</a:t>
            </a:r>
            <a:r>
              <a:rPr b="0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99960"/>
            <a:ext cx="92883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临 床 研 究</a:t>
            </a:r>
            <a:r>
              <a:rPr b="0" lang="zh-CN" sz="3600" spc="-1" strike="noStrike">
                <a:solidFill>
                  <a:srgbClr val="7613ad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27240" y="1915920"/>
            <a:ext cx="72324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组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8.0D) 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6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例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1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眼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对照组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(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3.0D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、正视、远视眼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68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例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1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眼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32880" y="473040"/>
            <a:ext cx="7899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PVD</a:t>
            </a: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发生率与年龄关系</a:t>
            </a:r>
            <a:r>
              <a:rPr b="0" lang="zh-CN" sz="4400" spc="-1" strike="noStrike">
                <a:solidFill>
                  <a:srgbClr val="761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876320"/>
          <a:ext cx="8209080" cy="2847960"/>
        </p:xfrm>
        <a:graphic>
          <a:graphicData uri="http://schemas.openxmlformats.org/drawingml/2006/table">
            <a:tbl>
              <a:tblPr/>
              <a:tblGrid>
                <a:gridCol w="2735280"/>
                <a:gridCol w="2736720"/>
                <a:gridCol w="2737080"/>
              </a:tblGrid>
              <a:tr h="33840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年龄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VD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高度近视组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=110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对照组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=119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29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2.9   ( 3/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      (0/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83.0   (44/53)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5.0   (3/2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50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6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75.6   (34/4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4.4   (22/6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00.0 (5/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57.0   (12/2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总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78.2   (86/1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1.1   (37/11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41"/>
          <p:cNvSpPr/>
          <p:nvPr/>
        </p:nvSpPr>
        <p:spPr>
          <a:xfrm>
            <a:off x="1763640" y="5084640"/>
            <a:ext cx="615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两组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VD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发生率的差异有非常显著意义（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01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高度近视组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VD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发生年龄比对照组为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两组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VD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的发生均随年龄增长而增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者密切相关（两组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分别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9997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9938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5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28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613ad"/>
                </a:solidFill>
                <a:latin typeface="Times New Roman"/>
              </a:rPr>
              <a:t>玻璃体液化、混浊与年龄关系</a:t>
            </a:r>
            <a:r>
              <a:rPr b="0" lang="zh-CN" sz="4400" spc="-1" strike="noStrike">
                <a:solidFill>
                  <a:srgbClr val="7613a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7613ad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39640" y="1773360"/>
          <a:ext cx="8116920" cy="3271680"/>
        </p:xfrm>
        <a:graphic>
          <a:graphicData uri="http://schemas.openxmlformats.org/drawingml/2006/table">
            <a:tbl>
              <a:tblPr/>
              <a:tblGrid>
                <a:gridCol w="2737080"/>
                <a:gridCol w="2573280"/>
                <a:gridCol w="2806560"/>
              </a:tblGrid>
              <a:tr h="36612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年龄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玻璃体液化、混浊发生率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高度近视组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=110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对照组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=119</a:t>
                      </a: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85.7   (6/7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        (0/14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4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4.3   (50/53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0.0     (4/20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50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6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5.6   (43/45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51.6     (33/64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≥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7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00.0 (5/5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61.9     (13/21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总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4.5   (104/110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42.02   (50/119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41"/>
          <p:cNvSpPr/>
          <p:nvPr/>
        </p:nvSpPr>
        <p:spPr>
          <a:xfrm>
            <a:off x="1128600" y="5229360"/>
            <a:ext cx="72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两组玻璃体液化、混浊发生率的差异有非常显著意义（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01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高度近视组的玻璃体液化及混浊发生年龄亦比对照组为早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对照组玻璃体液化、混浊发生率随年龄增长而增加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者密切相关（</a:t>
            </a:r>
            <a:r>
              <a:rPr b="1" lang="el-GR" sz="1800" spc="-1" strike="noStrike">
                <a:solidFill>
                  <a:srgbClr val="0033cc"/>
                </a:solidFill>
                <a:latin typeface="Times New Roman"/>
              </a:rPr>
              <a:t>Χ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 = 8.2335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，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5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360" y="399960"/>
            <a:ext cx="9216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613ad"/>
                </a:solidFill>
                <a:latin typeface="Times New Roman"/>
              </a:rPr>
              <a:t>高度近视眼轴与玻璃体眼底改变关系</a:t>
            </a:r>
            <a:endParaRPr b="0" lang="en-US" sz="4000" spc="-1" strike="noStrike">
              <a:solidFill>
                <a:srgbClr val="7613ad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9960" y="2060640"/>
          <a:ext cx="8425080" cy="2568600"/>
        </p:xfrm>
        <a:graphic>
          <a:graphicData uri="http://schemas.openxmlformats.org/drawingml/2006/table">
            <a:tbl>
              <a:tblPr/>
              <a:tblGrid>
                <a:gridCol w="1800360"/>
                <a:gridCol w="1800360"/>
                <a:gridCol w="2303280"/>
                <a:gridCol w="2521080"/>
              </a:tblGrid>
              <a:tr h="799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眼球轴长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m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V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玻璃体液化混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重度脉络膜视网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萎缩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6.0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28.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70.8 (46/6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2.3 (60/65)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6.7 (11/6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29.0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~31.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86.1(31/3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7.2 (35/3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9.4 ( 7/3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32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00.0 (9/9 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100.0 (9/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75.0 (6/8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＞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.05     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＜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38"/>
          <p:cNvSpPr/>
          <p:nvPr/>
        </p:nvSpPr>
        <p:spPr>
          <a:xfrm>
            <a:off x="746280" y="5013360"/>
            <a:ext cx="771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高度近视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PVD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发生率随眼球轴长增长而增加，二者密切相关（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5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不同眼球轴长各组间玻璃体液化、混浊发生率差别无显著性（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＞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5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重度脉络膜视网膜萎缩发生率亦随眼轴长度增长而增加（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.001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720" y="905040"/>
            <a:ext cx="92883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613ad"/>
                </a:solidFill>
                <a:latin typeface="Times New Roman"/>
              </a:rPr>
              <a:t>                 </a:t>
            </a:r>
            <a:r>
              <a:rPr b="1" lang="zh-CN" sz="4800" spc="-1" strike="noStrike">
                <a:solidFill>
                  <a:srgbClr val="7613ad"/>
                </a:solidFill>
                <a:latin typeface="Times New Roman"/>
              </a:rPr>
              <a:t>高度近视眼底改变</a:t>
            </a:r>
            <a:br>
              <a:rPr sz="4800"/>
            </a:br>
            <a:r>
              <a:rPr b="1" lang="zh-CN" sz="4800" spc="-1" strike="noStrike">
                <a:solidFill>
                  <a:srgbClr val="7613ad"/>
                </a:solidFill>
                <a:latin typeface="Times New Roman"/>
              </a:rPr>
              <a:t>与</a:t>
            </a:r>
            <a:r>
              <a:rPr b="1" lang="en-US" sz="4800" spc="-1" strike="noStrike">
                <a:solidFill>
                  <a:srgbClr val="7613ad"/>
                </a:solidFill>
                <a:latin typeface="Times New Roman"/>
              </a:rPr>
              <a:t>PVD</a:t>
            </a:r>
            <a:r>
              <a:rPr b="1" lang="zh-CN" sz="4800" spc="-1" strike="noStrike">
                <a:solidFill>
                  <a:srgbClr val="7613ad"/>
                </a:solidFill>
                <a:latin typeface="Times New Roman"/>
              </a:rPr>
              <a:t>玻璃体液化混浊关系</a:t>
            </a:r>
            <a:endParaRPr b="0" lang="en-US" sz="4800" spc="-1" strike="noStrike">
              <a:solidFill>
                <a:srgbClr val="7613ad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0920" y="2354400"/>
          <a:ext cx="8713800" cy="2587320"/>
        </p:xfrm>
        <a:graphic>
          <a:graphicData uri="http://schemas.openxmlformats.org/drawingml/2006/table">
            <a:tbl>
              <a:tblPr/>
              <a:tblGrid>
                <a:gridCol w="2789280"/>
                <a:gridCol w="2587320"/>
                <a:gridCol w="3337200"/>
              </a:tblGrid>
              <a:tr h="758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眼底改变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V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玻璃体液化混浊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发生率（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%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单纯性豹纹状眼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75.0 (39/5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4.2 (49/5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99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轻度脉络膜视网膜萎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81.8 (27/33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7.0 (32/33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重度脉络膜视网膜萎缩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80.0 (20/2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96.0 (24/2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＞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＞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3"/>
          <p:cNvSpPr/>
          <p:nvPr/>
        </p:nvSpPr>
        <p:spPr>
          <a:xfrm>
            <a:off x="1908000" y="5300640"/>
            <a:ext cx="53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VD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及玻璃体液化、混浊的发生率在眼底表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不同各组间差异均无显著性（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＞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0.05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9996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613ad"/>
                </a:solidFill>
                <a:latin typeface="Times New Roman"/>
              </a:rPr>
              <a:t>PVD</a:t>
            </a:r>
            <a:r>
              <a:rPr b="1" lang="zh-CN" sz="5400" spc="-1" strike="noStrike">
                <a:solidFill>
                  <a:srgbClr val="7613ad"/>
                </a:solidFill>
                <a:latin typeface="Times New Roman"/>
              </a:rPr>
              <a:t>与孔源性视网膜脱离</a:t>
            </a:r>
            <a:endParaRPr b="0" lang="en-US" sz="54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55160" y="2162160"/>
            <a:ext cx="730116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组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10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只眼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发生率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86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只眼（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78.2%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孔源性视网膜脱离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只眼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5.81%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）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对照组   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119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只眼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发生率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37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只眼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(31.1%)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无视网膜裂孔出现</a:t>
            </a: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838080" y="1663560"/>
            <a:ext cx="7949880" cy="5019480"/>
            <a:chOff x="838080" y="1663560"/>
            <a:chExt cx="7949880" cy="5019480"/>
          </a:xfrm>
        </p:grpSpPr>
        <p:pic>
          <p:nvPicPr>
            <p:cNvPr id="221" name="Picture 3" descr="重度拼图激光前"/>
            <p:cNvPicPr/>
            <p:nvPr/>
          </p:nvPicPr>
          <p:blipFill>
            <a:blip r:embed="rId1"/>
            <a:stretch/>
          </p:blipFill>
          <p:spPr>
            <a:xfrm>
              <a:off x="838080" y="1663560"/>
              <a:ext cx="4145400" cy="285624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222" name="Picture 4" descr="重度拼图激光后"/>
            <p:cNvPicPr/>
            <p:nvPr/>
          </p:nvPicPr>
          <p:blipFill>
            <a:blip r:embed="rId2"/>
            <a:stretch/>
          </p:blipFill>
          <p:spPr>
            <a:xfrm>
              <a:off x="4623840" y="3813840"/>
              <a:ext cx="4164120" cy="286920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  <p:sp>
        <p:nvSpPr>
          <p:cNvPr id="223" name="Text Box 5"/>
          <p:cNvSpPr/>
          <p:nvPr/>
        </p:nvSpPr>
        <p:spPr>
          <a:xfrm>
            <a:off x="3385800" y="287280"/>
            <a:ext cx="24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病  例  </a:t>
            </a: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1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762120" y="1625760"/>
            <a:ext cx="7543440" cy="5003640"/>
            <a:chOff x="762120" y="1625760"/>
            <a:chExt cx="7543440" cy="5003640"/>
          </a:xfrm>
        </p:grpSpPr>
        <p:pic>
          <p:nvPicPr>
            <p:cNvPr id="225" name="Picture 3" descr="郭海臣术前"/>
            <p:cNvPicPr/>
            <p:nvPr/>
          </p:nvPicPr>
          <p:blipFill>
            <a:blip r:embed="rId1"/>
            <a:stretch/>
          </p:blipFill>
          <p:spPr>
            <a:xfrm>
              <a:off x="762120" y="1625760"/>
              <a:ext cx="4007520" cy="27298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226" name="Picture 4" descr="郭海臣术后"/>
            <p:cNvPicPr/>
            <p:nvPr/>
          </p:nvPicPr>
          <p:blipFill>
            <a:blip r:embed="rId2"/>
            <a:stretch/>
          </p:blipFill>
          <p:spPr>
            <a:xfrm>
              <a:off x="4253040" y="3868920"/>
              <a:ext cx="4052520" cy="27604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  <p:sp>
        <p:nvSpPr>
          <p:cNvPr id="227" name="Rectangle 5"/>
          <p:cNvSpPr/>
          <p:nvPr/>
        </p:nvSpPr>
        <p:spPr>
          <a:xfrm>
            <a:off x="3455640" y="147600"/>
            <a:ext cx="24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病  例  </a:t>
            </a: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2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-100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病  例  </a:t>
            </a: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pic>
        <p:nvPicPr>
          <p:cNvPr id="229" name="Picture 3" descr="刘振国R-陈旧性RD 术前"/>
          <p:cNvPicPr/>
          <p:nvPr/>
        </p:nvPicPr>
        <p:blipFill>
          <a:blip r:embed="rId1"/>
          <a:stretch/>
        </p:blipFill>
        <p:spPr>
          <a:xfrm>
            <a:off x="1217520" y="1773360"/>
            <a:ext cx="7170840" cy="471492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研 究 背 景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920" y="151920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cc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我国近视性屈光不正的患病率位居世界前列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高度近视眼是一种严重的屈光不正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并发的玻璃体视网膜病变 </a:t>
            </a:r>
            <a:r>
              <a:rPr b="1" lang="zh-CN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视力下降乃至丧失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周边部视网膜变性甚至已出现裂孔合并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限局性视网膜脱离时，患者可毫无察觉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Verdana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视网膜脱离波及至黄斑部时，影响中心视力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并且术后视力恢复不理想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11240" y="5300640"/>
            <a:ext cx="7232760" cy="1036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重视高度近视眼与玻璃体视网膜病变的关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Verdana"/>
              </a:rPr>
              <a:t>给予及时的预防及治疗是至关重要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952560" y="1557360"/>
            <a:ext cx="7505280" cy="5105160"/>
            <a:chOff x="952560" y="1557360"/>
            <a:chExt cx="7505280" cy="5105160"/>
          </a:xfrm>
        </p:grpSpPr>
        <p:pic>
          <p:nvPicPr>
            <p:cNvPr id="231" name="Picture 3" descr="yao"/>
            <p:cNvPicPr/>
            <p:nvPr/>
          </p:nvPicPr>
          <p:blipFill>
            <a:blip r:embed="rId1"/>
            <a:stretch/>
          </p:blipFill>
          <p:spPr>
            <a:xfrm>
              <a:off x="952560" y="1557360"/>
              <a:ext cx="4366080" cy="277884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232" name="Picture 4" descr="yao1"/>
            <p:cNvPicPr/>
            <p:nvPr/>
          </p:nvPicPr>
          <p:blipFill>
            <a:blip r:embed="rId2"/>
            <a:stretch/>
          </p:blipFill>
          <p:spPr>
            <a:xfrm>
              <a:off x="4366080" y="4040640"/>
              <a:ext cx="4091760" cy="26218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  <p:sp>
        <p:nvSpPr>
          <p:cNvPr id="233" name="Rectangle 5"/>
          <p:cNvSpPr/>
          <p:nvPr/>
        </p:nvSpPr>
        <p:spPr>
          <a:xfrm>
            <a:off x="3516120" y="237960"/>
            <a:ext cx="24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病  例  </a:t>
            </a: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4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1640" y="328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小    结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640" y="1862280"/>
            <a:ext cx="846936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组  玻璃体改变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(PV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、玻璃体液化、混浊）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视网膜裂孔、脱离发生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均高于和早于对照组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0717"/>
                </a:solidFill>
                <a:latin typeface="Times New Roman"/>
                <a:ea typeface="华文中宋"/>
              </a:rPr>
              <a:t>眼轴增长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是导致近视度数增加的重要解剖因素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眼轴增长，高度近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发生率相应增加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眼轴增长，重度脉络膜视网膜萎缩发生率亦增加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高度近视眼是孔源性视网膜脱离高危因素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在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导致视网膜裂孔及视网膜脱离发病中起重要作用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0" y="47304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临  床  启  示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752120"/>
            <a:ext cx="82087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患者主述眼前漂浮物或闪光感时要散瞳检查眼底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重点：周边部视网膜，必要时行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B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超声检查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眼行准分子激光前或验配眼镜时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散瞳详查眼底是必要的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眼出现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后，应定期随诊、密切观察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一旦发现视网膜裂孔，立即激光治疗，预防视网膜脱离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对高度近视眼给予足够重视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争取早期发现玻璃体视网膜病变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345W4220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148280"/>
            <a:ext cx="813600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200" spc="-1" strike="noStrike">
                <a:solidFill>
                  <a:srgbClr val="ff0000"/>
                </a:solidFill>
                <a:latin typeface="隶书"/>
                <a:ea typeface="隶书"/>
              </a:rPr>
              <a:t>谢  谢</a:t>
            </a:r>
            <a:br>
              <a:rPr sz="7400"/>
            </a:br>
            <a:r>
              <a:rPr b="1" lang="zh-CN" sz="7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i="1" lang="en-US" sz="4800" spc="-1" strike="noStrike">
                <a:solidFill>
                  <a:srgbClr val="fc0819"/>
                </a:solidFill>
                <a:latin typeface="Times New Roman"/>
              </a:rPr>
              <a:t>Thank you for your attention</a:t>
            </a:r>
            <a:endParaRPr b="0" lang="en-US" sz="4800" spc="-1" strike="noStrike">
              <a:solidFill>
                <a:srgbClr val="7613ad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613ad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发 病 机 制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52280" y="1501920"/>
            <a:ext cx="7551720" cy="30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高度近视发病原因目前尚不明了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华文中宋"/>
              </a:rPr>
              <a:t>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先天遗传性近视眼：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5% ~ 8%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Verdana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后天环境：对近视眼发病有重要作用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眼球轴长增加 </a:t>
            </a:r>
            <a:r>
              <a:rPr b="1" lang="zh-CN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后极部进行性脉络膜视网膜病变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                    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1522440" y="4292640"/>
            <a:ext cx="6002280" cy="2106720"/>
            <a:chOff x="1522440" y="4292640"/>
            <a:chExt cx="6002280" cy="2106720"/>
          </a:xfrm>
        </p:grpSpPr>
        <p:pic>
          <p:nvPicPr>
            <p:cNvPr id="177" name="Picture 6" descr="grape[2]"/>
            <p:cNvPicPr/>
            <p:nvPr/>
          </p:nvPicPr>
          <p:blipFill>
            <a:blip r:embed="rId1"/>
            <a:stretch/>
          </p:blipFill>
          <p:spPr>
            <a:xfrm>
              <a:off x="1522440" y="4295880"/>
              <a:ext cx="2857680" cy="21034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78" name="Picture 7" descr="李碧霞激光后4-Cup"/>
            <p:cNvPicPr/>
            <p:nvPr/>
          </p:nvPicPr>
          <p:blipFill>
            <a:blip r:embed="rId2"/>
            <a:stretch/>
          </p:blipFill>
          <p:spPr>
            <a:xfrm>
              <a:off x="4789440" y="4292640"/>
              <a:ext cx="2735280" cy="20620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1640" y="47304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组织病理学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000" y="2206800"/>
            <a:ext cx="813564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3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神经视网膜变薄，黄斑区尤为显著 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神经节细胞层消失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)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3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视网膜色素上皮较正常体积增大而平坦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3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玻璃膜变薄、破裂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3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脉络膜萎缩、变薄，毛细血管显著变薄或无血管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53352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cc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3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后极部巩膜外凸，超微结构显示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微纤维结构紊乱   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分    级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721560" cy="36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94560" indent="0" algn="ctr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94560" indent="-39456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单纯性豹纹状眼底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394560" indent="-3945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轻度脉络膜视网膜萎缩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后极部斑点状或线条状脉络膜视网膜萎缩</a:t>
            </a: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  <a:p>
            <a:pPr marL="394560" indent="-39456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重度脉络膜视网膜萎缩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后极部弥漫性、不规则</a:t>
            </a: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  <a:p>
            <a:pPr marL="394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华文中宋"/>
                <a:ea typeface="华文中宋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华文中宋"/>
                <a:ea typeface="华文中宋"/>
              </a:rPr>
              <a:t>脉络膜视网膜萎缩</a:t>
            </a:r>
            <a:endParaRPr b="0" lang="en-US" sz="1800" spc="-1" strike="noStrike">
              <a:solidFill>
                <a:srgbClr val="0000cc"/>
              </a:solidFill>
              <a:latin typeface="Verdana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3832200" y="1438200"/>
            <a:ext cx="4987800" cy="5330880"/>
            <a:chOff x="3832200" y="1438200"/>
            <a:chExt cx="4987800" cy="5330880"/>
          </a:xfrm>
        </p:grpSpPr>
        <p:pic>
          <p:nvPicPr>
            <p:cNvPr id="184" name="Picture 5" descr="重度"/>
            <p:cNvPicPr/>
            <p:nvPr/>
          </p:nvPicPr>
          <p:blipFill>
            <a:blip r:embed="rId1"/>
            <a:stretch/>
          </p:blipFill>
          <p:spPr>
            <a:xfrm>
              <a:off x="4414680" y="4797360"/>
              <a:ext cx="2533680" cy="197172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85" name="Picture 6" descr="单纯性豹纹状眼底"/>
            <p:cNvPicPr/>
            <p:nvPr/>
          </p:nvPicPr>
          <p:blipFill>
            <a:blip r:embed="rId2"/>
            <a:stretch/>
          </p:blipFill>
          <p:spPr>
            <a:xfrm>
              <a:off x="3832200" y="1438200"/>
              <a:ext cx="2468520" cy="191952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86" name="Picture 7" descr="种双燕L-HM轻度"/>
            <p:cNvPicPr/>
            <p:nvPr/>
          </p:nvPicPr>
          <p:blipFill>
            <a:blip r:embed="rId3"/>
            <a:stretch/>
          </p:blipFill>
          <p:spPr>
            <a:xfrm>
              <a:off x="6310440" y="2852640"/>
              <a:ext cx="2509560" cy="195444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并 发 症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488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玻璃体变性、玻璃体后脱离（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）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79880" indent="-4798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视网膜裂孔及脱离的发生率：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％～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％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79880" indent="-4798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黄斑部视网膜下新生血管膜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79880" indent="-4798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合并开角型青光眼：比正常眼高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～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倍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79880" indent="-4798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晶状体混浊、悬韧带松弛、晶体移位、虹膜震颤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79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1328760" y="4292640"/>
            <a:ext cx="6627960" cy="2290680"/>
            <a:chOff x="1328760" y="4292640"/>
            <a:chExt cx="6627960" cy="2290680"/>
          </a:xfrm>
        </p:grpSpPr>
        <p:pic>
          <p:nvPicPr>
            <p:cNvPr id="190" name="Picture 5" descr="1"/>
            <p:cNvPicPr/>
            <p:nvPr/>
          </p:nvPicPr>
          <p:blipFill>
            <a:blip r:embed="rId1"/>
            <a:stretch/>
          </p:blipFill>
          <p:spPr>
            <a:xfrm>
              <a:off x="4811760" y="4292640"/>
              <a:ext cx="3144960" cy="229068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91" name="Picture 6" descr="武佩华L-HM+SRNVM"/>
            <p:cNvPicPr/>
            <p:nvPr/>
          </p:nvPicPr>
          <p:blipFill>
            <a:blip r:embed="rId2"/>
            <a:stretch/>
          </p:blipFill>
          <p:spPr>
            <a:xfrm>
              <a:off x="1328760" y="4292640"/>
              <a:ext cx="3387600" cy="228132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PVD彩图"/>
          <p:cNvPicPr/>
          <p:nvPr/>
        </p:nvPicPr>
        <p:blipFill>
          <a:blip r:embed="rId1"/>
          <a:stretch/>
        </p:blipFill>
        <p:spPr>
          <a:xfrm>
            <a:off x="4500720" y="3068640"/>
            <a:ext cx="4535280" cy="33685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玻璃体后脱离 </a:t>
            </a:r>
            <a:r>
              <a:rPr b="1" lang="en-US" sz="4400" spc="-1" strike="noStrike">
                <a:solidFill>
                  <a:srgbClr val="7613ad"/>
                </a:solidFill>
                <a:latin typeface="Times New Roman"/>
              </a:rPr>
              <a:t>(PVD)</a:t>
            </a:r>
            <a:r>
              <a:rPr b="0" lang="en-US" sz="3600" spc="-1" strike="noStrike">
                <a:solidFill>
                  <a:srgbClr val="7613ad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920" y="1557360"/>
            <a:ext cx="66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69440" indent="-469440" algn="just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玻璃体皮质与视网膜分离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69440" indent="-469440" algn="just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后玻璃体皮质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II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型胶原与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694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视网膜内界膜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IV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型胶原分离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69440" indent="-469440" algn="just">
              <a:lnSpc>
                <a:spcPct val="15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 →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视网膜裂孔、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694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视网膜脱离、玻璃体</a:t>
            </a:r>
            <a:r>
              <a:rPr b="1" lang="zh-CN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积血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255600" y="165240"/>
            <a:ext cx="8672400" cy="6494400"/>
            <a:chOff x="255600" y="165240"/>
            <a:chExt cx="8672400" cy="6494400"/>
          </a:xfrm>
        </p:grpSpPr>
        <p:pic>
          <p:nvPicPr>
            <p:cNvPr id="196" name="Picture 3" descr="部分后脱离"/>
            <p:cNvPicPr/>
            <p:nvPr/>
          </p:nvPicPr>
          <p:blipFill>
            <a:blip r:embed="rId1"/>
            <a:stretch/>
          </p:blipFill>
          <p:spPr>
            <a:xfrm>
              <a:off x="255600" y="165240"/>
              <a:ext cx="4265640" cy="319860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97" name="Picture 4" descr="玻璃体后脱离"/>
            <p:cNvPicPr/>
            <p:nvPr/>
          </p:nvPicPr>
          <p:blipFill>
            <a:blip r:embed="rId2"/>
            <a:stretch/>
          </p:blipFill>
          <p:spPr>
            <a:xfrm>
              <a:off x="4648320" y="190440"/>
              <a:ext cx="4279680" cy="321012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98" name="Picture 5" descr="全PVD"/>
            <p:cNvPicPr/>
            <p:nvPr/>
          </p:nvPicPr>
          <p:blipFill>
            <a:blip r:embed="rId3"/>
            <a:stretch/>
          </p:blipFill>
          <p:spPr>
            <a:xfrm>
              <a:off x="255600" y="3543480"/>
              <a:ext cx="4240080" cy="310356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  <p:pic>
          <p:nvPicPr>
            <p:cNvPr id="199" name="Picture 6" descr="Weiss Ring"/>
            <p:cNvPicPr/>
            <p:nvPr/>
          </p:nvPicPr>
          <p:blipFill>
            <a:blip r:embed="rId4"/>
            <a:stretch/>
          </p:blipFill>
          <p:spPr>
            <a:xfrm>
              <a:off x="4660920" y="3543480"/>
              <a:ext cx="4241880" cy="3116160"/>
            </a:xfrm>
            <a:prstGeom prst="rect">
              <a:avLst/>
            </a:prstGeom>
            <a:ln w="19080">
              <a:solidFill>
                <a:srgbClr val="ff9900"/>
              </a:solidFill>
              <a:miter/>
            </a:ln>
          </p:spPr>
        </p:pic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28680"/>
            <a:ext cx="817884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015920" indent="0" algn="ctr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613ad"/>
                </a:solidFill>
                <a:latin typeface="Times New Roman"/>
              </a:rPr>
              <a:t>PVD</a:t>
            </a:r>
            <a:r>
              <a:rPr b="1" lang="zh-CN" sz="6000" spc="-1" strike="noStrike">
                <a:solidFill>
                  <a:srgbClr val="7613ad"/>
                </a:solidFill>
                <a:latin typeface="Times New Roman"/>
              </a:rPr>
              <a:t>病因学</a:t>
            </a:r>
            <a:endParaRPr b="0" lang="en-US" sz="6000" spc="-1" strike="noStrike">
              <a:solidFill>
                <a:srgbClr val="7613ad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72720" y="1699920"/>
            <a:ext cx="77756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玻璃体液化及流变学改变 → 玻璃体皮质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与视网膜内界膜之间粘附力下降 →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玻璃体老化及病理生理改变 → 玻璃体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中透明质酸解聚、胶原纤维网溶解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高度近视眼玻璃体内胶原及透明质酸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浓度较非近视眼低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30%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，其中央部更为显著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透明质酸具有很强吸水功能 → 玻璃体保持胶冻状态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透明质酸 </a:t>
            </a:r>
            <a:r>
              <a:rPr b="1" lang="zh-CN" sz="24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→ 玻璃体液化、混浊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Verdana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胶原减少 → 玻璃体液化、纤维变性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  →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牵拉后部玻璃体 →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PVD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华文中宋"/>
              </a:rPr>
              <a:t>      </a:t>
            </a:r>
            <a:endParaRPr b="0" lang="en-US" sz="24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09:19:25Z</dcterms:created>
  <dc:creator>LQ</dc:creator>
  <dc:description/>
  <dc:language>en-US</dc:language>
  <cp:lastModifiedBy>Chao Kai</cp:lastModifiedBy>
  <dcterms:modified xsi:type="dcterms:W3CDTF">2010-07-23T16:51:16Z</dcterms:modified>
  <cp:revision>304</cp:revision>
  <dc:subject/>
  <dc:title>幻灯片 1</dc:title>
</cp:coreProperties>
</file>