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AAF-8C6F-4880-A316-A8BBD40D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711-0914-4EA0-9321-5F503909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5EA-4E98-43B7-8BC7-00B329B2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48E-A992-442B-BD10-1351AC7A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D0F-72AC-48F0-9FA7-5BFC4BB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47C-8625-492D-A4A0-0BD4FF84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791-AE62-47E0-877E-A63A8D8B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312-05DE-4897-A21C-810A4FE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E03-FA63-4655-907C-B30B8B86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0D7-9159-48B1-9090-1074B33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83F-5773-4624-8858-38F1488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640-A1AA-44AA-BF16-490B088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A21-45F7-42B5-9C40-583192DC0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南昌市白内障光明工程手术疗效调查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昌市第一医院眼科  俞方良 石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119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.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564000" y="659772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24000" y="981000"/>
            <a:ext cx="43164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术后随访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0000"/>
                </a:solidFill>
                <a:latin typeface="楷体_GB2312"/>
                <a:ea typeface="楷体_GB2312"/>
              </a:rPr>
              <a:t>术后第一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06"/>
          <p:cNvPicPr/>
          <p:nvPr/>
        </p:nvPicPr>
        <p:blipFill>
          <a:blip r:embed="rId3"/>
          <a:stretch/>
        </p:blipFill>
        <p:spPr>
          <a:xfrm>
            <a:off x="2411280" y="404640"/>
            <a:ext cx="6410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128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3564000" y="666900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981000"/>
            <a:ext cx="43164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术后随访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0000"/>
                </a:solidFill>
                <a:latin typeface="楷体_GB2312"/>
                <a:ea typeface="楷体_GB2312"/>
              </a:rPr>
              <a:t>术后长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07"/>
          <p:cNvPicPr/>
          <p:nvPr/>
        </p:nvPicPr>
        <p:blipFill>
          <a:blip r:embed="rId3"/>
          <a:stretch/>
        </p:blipFill>
        <p:spPr>
          <a:xfrm>
            <a:off x="1403280" y="1052640"/>
            <a:ext cx="6058080" cy="261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08"/>
          <p:cNvPicPr/>
          <p:nvPr/>
        </p:nvPicPr>
        <p:blipFill>
          <a:blip r:embed="rId4"/>
          <a:stretch/>
        </p:blipFill>
        <p:spPr>
          <a:xfrm>
            <a:off x="5267160" y="3213000"/>
            <a:ext cx="310356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5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138" name="Oval 16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研究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istock_be_first"/>
          <p:cNvPicPr/>
          <p:nvPr/>
        </p:nvPicPr>
        <p:blipFill>
          <a:blip r:embed="rId2"/>
          <a:stretch/>
        </p:blipFill>
        <p:spPr>
          <a:xfrm>
            <a:off x="-1044720" y="2133720"/>
            <a:ext cx="7096320" cy="532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眼睛"/>
          <p:cNvPicPr/>
          <p:nvPr/>
        </p:nvPicPr>
        <p:blipFill>
          <a:blip r:embed="rId3"/>
          <a:stretch/>
        </p:blipFill>
        <p:spPr>
          <a:xfrm>
            <a:off x="5651640" y="4286160"/>
            <a:ext cx="3492360" cy="2571840"/>
          </a:xfrm>
          <a:prstGeom prst="rect">
            <a:avLst/>
          </a:prstGeom>
          <a:ln w="0">
            <a:noFill/>
          </a:ln>
        </p:spPr>
      </p:pic>
      <p:sp>
        <p:nvSpPr>
          <p:cNvPr id="146" name="Oval 7"/>
          <p:cNvSpPr/>
          <p:nvPr/>
        </p:nvSpPr>
        <p:spPr>
          <a:xfrm>
            <a:off x="1116000" y="404640"/>
            <a:ext cx="647640" cy="432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716360" y="357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doni MT Black"/>
              </a:rPr>
              <a:t>No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864560" y="4226040"/>
            <a:ext cx="81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AutoShape 11"/>
          <p:cNvGrpSpPr/>
          <p:nvPr/>
        </p:nvGrpSpPr>
        <p:grpSpPr>
          <a:xfrm>
            <a:off x="2766960" y="1620720"/>
            <a:ext cx="6529320" cy="1579680"/>
            <a:chOff x="2766960" y="1620720"/>
            <a:chExt cx="6529320" cy="1579680"/>
          </a:xfrm>
        </p:grpSpPr>
        <p:pic>
          <p:nvPicPr>
            <p:cNvPr id="150" name="AutoShape 11" descr=""/>
            <p:cNvPicPr/>
            <p:nvPr/>
          </p:nvPicPr>
          <p:blipFill>
            <a:blip r:embed="rId5"/>
            <a:stretch/>
          </p:blipFill>
          <p:spPr>
            <a:xfrm>
              <a:off x="2766960" y="1620720"/>
              <a:ext cx="652932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5400000">
              <a:off x="4745520" y="-162360"/>
              <a:ext cx="1382760" cy="51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40000"/>
                  </a:solidFill>
                  <a:latin typeface="Arial"/>
                  <a:ea typeface="华文细黑"/>
                </a:rPr>
                <a:t>完成手术量及手术效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153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3564000" y="666900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24000" y="981000"/>
            <a:ext cx="43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手术量及手术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161" name="Oval 13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4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58560" y="1196640"/>
            <a:ext cx="7561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09.5.9-01.4.31  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南昌市</a:t>
            </a: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460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万人口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筛查可白内障手术患者</a:t>
            </a:r>
            <a:r>
              <a:rPr b="1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2</a:t>
            </a:r>
            <a:r>
              <a:rPr b="1" lang="en-US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2105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dobe 仿宋 Std 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南昌市第一医院完成</a:t>
            </a:r>
            <a:r>
              <a:rPr b="1" lang="en-US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5729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人，并对导致低视力和盲的主要眼病进行了流行病学调查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共完成手术</a:t>
            </a:r>
            <a:r>
              <a:rPr b="1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1" lang="en-US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9079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平均手术时间：</a:t>
            </a:r>
            <a:r>
              <a:rPr b="1" lang="en-US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15</a:t>
            </a:r>
            <a:r>
              <a:rPr b="1" lang="zh-CN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分钟</a:t>
            </a:r>
            <a:r>
              <a:rPr b="1" lang="en-US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/</a:t>
            </a:r>
            <a:r>
              <a:rPr b="1" lang="zh-CN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每个手术日完成的手术平均约</a:t>
            </a:r>
            <a:r>
              <a:rPr b="1" lang="en-US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25</a:t>
            </a:r>
            <a:r>
              <a:rPr b="1" lang="zh-CN" sz="20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台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166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3564000" y="666900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981000"/>
            <a:ext cx="43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科学的手术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174" name="Oval 11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58560" y="1197000"/>
            <a:ext cx="78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小切口非超声乳化 </a:t>
            </a:r>
            <a:r>
              <a:rPr b="1" lang="en-GB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V.S. </a:t>
            </a:r>
            <a:r>
              <a:rPr b="1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透明角膜切口超声乳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术式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</a:t>
            </a: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根据患者的核混浊程度、年龄、眼部条件合理选择术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由南昌市第一医院完成</a:t>
            </a:r>
            <a:r>
              <a:rPr b="0" lang="en-US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5729</a:t>
            </a: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dobe 仿宋 Std 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透明角膜切口超声乳化</a:t>
            </a:r>
            <a:r>
              <a:rPr b="1" lang="en-US" sz="24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3692</a:t>
            </a:r>
            <a:r>
              <a:rPr b="1" lang="zh-CN" sz="24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dobe 仿宋 Std 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小切口非超声乳化</a:t>
            </a:r>
            <a:r>
              <a:rPr b="1" lang="en-US" sz="24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1037</a:t>
            </a:r>
            <a:r>
              <a:rPr b="1" lang="zh-CN" sz="24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dobe 仿宋 Std 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比例  </a:t>
            </a:r>
            <a:r>
              <a:rPr b="1" lang="en-US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3.56 :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dobe 仿宋 Std 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人工晶体植入率</a:t>
            </a:r>
            <a:r>
              <a:rPr b="1" lang="en-US" sz="24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98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179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564000" y="666900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24000" y="981000"/>
            <a:ext cx="43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手术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187" name="Oval 11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2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3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78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由南昌市第一医院完成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5729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术后视力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术后第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天视力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0.8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者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395</a:t>
            </a:r>
            <a:r>
              <a:rPr b="1" lang="zh-CN" sz="18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（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6.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0.8-≥0.3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者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3269</a:t>
            </a:r>
            <a:r>
              <a:rPr b="1" lang="zh-CN" sz="18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（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57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0.3-≥0.1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者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780</a:t>
            </a:r>
            <a:r>
              <a:rPr b="1" lang="zh-CN" sz="18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（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31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0.1-≥0.01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者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246</a:t>
            </a:r>
            <a:r>
              <a:rPr b="1" lang="zh-CN" sz="18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眼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(4.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0.01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者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39</a:t>
            </a:r>
            <a:r>
              <a:rPr b="1" lang="zh-CN" sz="1800" spc="-1" strike="noStrike" u="sng">
                <a:solidFill>
                  <a:srgbClr val="640000"/>
                </a:solidFill>
                <a:uFillTx/>
                <a:latin typeface="Adobe 仿宋 Std R"/>
                <a:ea typeface="Adobe 仿宋 Std R"/>
              </a:rPr>
              <a:t>眼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(0.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视力无提高</a:t>
            </a:r>
            <a:r>
              <a:rPr b="0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57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，进一步分析其原因为视神经萎缩、黄斑变性、糖尿病视网膜病变、眼底出血等疾病导致视力不能增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术后并发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发生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角膜水肿</a:t>
            </a:r>
            <a:r>
              <a:rPr b="1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223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，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前房渗出</a:t>
            </a:r>
            <a:r>
              <a:rPr b="1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23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，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后囊膜破裂未植入人工晶体</a:t>
            </a:r>
            <a:r>
              <a:rPr b="1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81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，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后弹力层脱离</a:t>
            </a:r>
            <a:r>
              <a:rPr b="1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2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，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前房出血</a:t>
            </a:r>
            <a:r>
              <a:rPr b="1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，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内感染</a:t>
            </a:r>
            <a:r>
              <a:rPr b="1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患者均在合理用药治疗后痊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尚未出现视网膜脱离、晶体玻璃体异位、角膜失代偿等严重并发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320000" y="32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1" lang="zh-CN" sz="1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193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3564000" y="666900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24000" y="981000"/>
            <a:ext cx="43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术后随访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201" name="Oval 11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3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741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由南昌市第一医院完成</a:t>
            </a: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5729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眼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术后第</a:t>
            </a: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天 回访率</a:t>
            </a:r>
            <a:r>
              <a:rPr b="1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00%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（</a:t>
            </a: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6.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术后</a:t>
            </a: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周    回访率</a:t>
            </a:r>
            <a:r>
              <a:rPr b="1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9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术后</a:t>
            </a: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1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月    回访率</a:t>
            </a:r>
            <a:r>
              <a:rPr b="1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64.5</a:t>
            </a:r>
            <a:r>
              <a:rPr b="1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眼睛"/>
          <p:cNvPicPr/>
          <p:nvPr/>
        </p:nvPicPr>
        <p:blipFill>
          <a:blip r:embed="rId2"/>
          <a:stretch/>
        </p:blipFill>
        <p:spPr>
          <a:xfrm>
            <a:off x="5651640" y="4286160"/>
            <a:ext cx="3492360" cy="25718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关爱民生、造福百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首次制定了一整套规范化、系统化、具体化的白内障防盲优化工作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培养了一支能在短时间内“大批量、高质量”实施白内障手术的专业梯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完善我市眼病流行病学资料，指导防盲治盲工作的进一步深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初步建立可持续发展的防盲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1116000" y="404640"/>
            <a:ext cx="719280" cy="4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grpSp>
        <p:nvGrpSpPr>
          <p:cNvPr id="212" name="Group 3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213" name="Oval 4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7" descr="眼睛"/>
          <p:cNvPicPr/>
          <p:nvPr/>
        </p:nvPicPr>
        <p:blipFill>
          <a:blip r:embed="rId2"/>
          <a:stretch/>
        </p:blipFill>
        <p:spPr>
          <a:xfrm>
            <a:off x="7381800" y="5229360"/>
            <a:ext cx="1762200" cy="1296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8"/>
          <p:cNvSpPr/>
          <p:nvPr/>
        </p:nvSpPr>
        <p:spPr>
          <a:xfrm>
            <a:off x="2095560" y="-41160600"/>
            <a:ext cx="391464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2049480" y="-36923760"/>
            <a:ext cx="463860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2181240" y="9126360"/>
            <a:ext cx="359100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2049480" y="13273200"/>
            <a:ext cx="501948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2003400" y="29238480"/>
            <a:ext cx="5276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6300720" y="6669000"/>
            <a:ext cx="251928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324000" y="981000"/>
            <a:ext cx="4316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完善流行病学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寻找新的突破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8459640" y="3068640"/>
            <a:ext cx="0" cy="302436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971640" y="112428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</a:t>
            </a:r>
            <a:r>
              <a:rPr b="1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通过筛查摸清南昌市盲和低视力眼病疾病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1835280" y="302940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在本项目的实施工程中，还利用“白内障复明工程”的筛查工作的开展，对南昌市</a:t>
            </a: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50</a:t>
            </a:r>
            <a:r>
              <a:rPr b="0" lang="zh-CN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岁以上的低视力原因进行了初步的流行病学调查研究。这不但有助于了解我市盲和低视力的实际状况，而且将有助于今后我市防盲治盲工作的规划和开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5"/>
          <p:cNvSpPr/>
          <p:nvPr/>
        </p:nvSpPr>
        <p:spPr>
          <a:xfrm>
            <a:off x="6227640" y="4365720"/>
            <a:ext cx="1943280" cy="1439640"/>
          </a:xfrm>
          <a:prstGeom prst="roundRect">
            <a:avLst>
              <a:gd name="adj" fmla="val 16667"/>
            </a:avLst>
          </a:prstGeom>
          <a:blipFill rotWithShape="0">
            <a:blip r:embed="rId4">
              <a:alphaModFix amt="96000"/>
            </a:blip>
            <a:srcRect/>
            <a:stretch/>
          </a:blipFill>
          <a:ln w="9360">
            <a:solidFill>
              <a:srgbClr val="b6514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grpSp>
        <p:nvGrpSpPr>
          <p:cNvPr id="233" name="Group 3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234" name="Oval 4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7" descr="眼睛"/>
          <p:cNvPicPr/>
          <p:nvPr/>
        </p:nvPicPr>
        <p:blipFill>
          <a:blip r:embed="rId2"/>
          <a:stretch/>
        </p:blipFill>
        <p:spPr>
          <a:xfrm>
            <a:off x="7381800" y="5229360"/>
            <a:ext cx="1762200" cy="12967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8"/>
          <p:cNvSpPr/>
          <p:nvPr/>
        </p:nvSpPr>
        <p:spPr>
          <a:xfrm>
            <a:off x="2095560" y="-41160600"/>
            <a:ext cx="391464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2049480" y="-36923760"/>
            <a:ext cx="463860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2181240" y="9126360"/>
            <a:ext cx="359100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2049480" y="13273200"/>
            <a:ext cx="501948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2003400" y="29238480"/>
            <a:ext cx="5276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6300720" y="6669000"/>
            <a:ext cx="251928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24000" y="981000"/>
            <a:ext cx="43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初步建立可持续发展的防盲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8"/>
          <p:cNvSpPr/>
          <p:nvPr/>
        </p:nvSpPr>
        <p:spPr>
          <a:xfrm>
            <a:off x="1116000" y="404640"/>
            <a:ext cx="934920" cy="4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8459640" y="3068640"/>
            <a:ext cx="0" cy="302436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971640" y="112428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835280" y="318204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1187280" y="1052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2d"/>
                </a:solidFill>
                <a:latin typeface="Adobe 仿宋 Std R"/>
                <a:ea typeface="Adobe 仿宋 Std R"/>
              </a:rPr>
              <a:t>       </a:t>
            </a:r>
            <a:r>
              <a:rPr b="0" lang="zh-CN" sz="2000" spc="-1" strike="noStrike">
                <a:solidFill>
                  <a:srgbClr val="86002d"/>
                </a:solidFill>
                <a:latin typeface="Adobe 仿宋 Std R"/>
                <a:ea typeface="Adobe 仿宋 Std R"/>
              </a:rPr>
              <a:t>通过政府的统一部署和大力支持，出资购置许多必备的眼科专业仪器设备，均衡医疗资源的分布；通过定点三甲医院医务人员下乡筛查、下乡手术、举办学习班等多种形式，对基层医院医生进行多层次、多级别的业务培训；通过在“光明工程”的具体实施工程中不断发现问题、总结问题、解决问题，目前我们已在全市初步建立起一个白内障三级防治网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1476360" y="3141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村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1476360" y="3718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乡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1476360" y="486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市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7"/>
          <p:cNvSpPr/>
          <p:nvPr/>
        </p:nvSpPr>
        <p:spPr>
          <a:xfrm>
            <a:off x="3276720" y="3141720"/>
            <a:ext cx="1296720" cy="503280"/>
          </a:xfrm>
          <a:prstGeom prst="roundRect">
            <a:avLst>
              <a:gd name="adj" fmla="val 13745"/>
            </a:avLst>
          </a:prstGeom>
          <a:noFill/>
          <a:ln w="12600">
            <a:solidFill>
              <a:srgbClr val="86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0000"/>
                </a:solidFill>
                <a:latin typeface="华文新魏"/>
                <a:ea typeface="华文新魏"/>
              </a:rPr>
              <a:t>信息核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8"/>
          <p:cNvSpPr/>
          <p:nvPr/>
        </p:nvSpPr>
        <p:spPr>
          <a:xfrm>
            <a:off x="5653080" y="3141720"/>
            <a:ext cx="792000" cy="503280"/>
          </a:xfrm>
          <a:prstGeom prst="roundRect">
            <a:avLst>
              <a:gd name="adj" fmla="val 13745"/>
            </a:avLst>
          </a:prstGeom>
          <a:noFill/>
          <a:ln w="12600">
            <a:solidFill>
              <a:srgbClr val="86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0000"/>
                </a:solidFill>
                <a:latin typeface="华文新魏"/>
                <a:ea typeface="华文新魏"/>
              </a:rPr>
              <a:t>登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9"/>
          <p:cNvSpPr/>
          <p:nvPr/>
        </p:nvSpPr>
        <p:spPr>
          <a:xfrm>
            <a:off x="4716360" y="3141720"/>
            <a:ext cx="792360" cy="503280"/>
          </a:xfrm>
          <a:prstGeom prst="roundRect">
            <a:avLst>
              <a:gd name="adj" fmla="val 13745"/>
            </a:avLst>
          </a:prstGeom>
          <a:noFill/>
          <a:ln w="12600">
            <a:solidFill>
              <a:srgbClr val="86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0000"/>
                </a:solidFill>
                <a:latin typeface="华文新魏"/>
                <a:ea typeface="华文新魏"/>
              </a:rPr>
              <a:t>宣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0"/>
          <p:cNvSpPr/>
          <p:nvPr/>
        </p:nvSpPr>
        <p:spPr>
          <a:xfrm>
            <a:off x="5508720" y="3933720"/>
            <a:ext cx="1296720" cy="503280"/>
          </a:xfrm>
          <a:prstGeom prst="roundRect">
            <a:avLst>
              <a:gd name="adj" fmla="val 13745"/>
            </a:avLst>
          </a:prstGeom>
          <a:noFill/>
          <a:ln w="12600">
            <a:solidFill>
              <a:srgbClr val="86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0000"/>
                </a:solidFill>
                <a:latin typeface="华文新魏"/>
                <a:ea typeface="华文新魏"/>
              </a:rPr>
              <a:t>组织复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1"/>
          <p:cNvSpPr/>
          <p:nvPr/>
        </p:nvSpPr>
        <p:spPr>
          <a:xfrm flipV="1">
            <a:off x="3492360" y="4294080"/>
            <a:ext cx="1944720" cy="43200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2556000" y="4078440"/>
            <a:ext cx="295272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3"/>
          <p:cNvSpPr/>
          <p:nvPr/>
        </p:nvSpPr>
        <p:spPr>
          <a:xfrm>
            <a:off x="5580000" y="4799160"/>
            <a:ext cx="1297080" cy="502920"/>
          </a:xfrm>
          <a:prstGeom prst="roundRect">
            <a:avLst>
              <a:gd name="adj" fmla="val 13745"/>
            </a:avLst>
          </a:prstGeom>
          <a:noFill/>
          <a:ln w="12600">
            <a:solidFill>
              <a:srgbClr val="86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0000"/>
                </a:solidFill>
                <a:latin typeface="华文新魏"/>
                <a:ea typeface="华文新魏"/>
              </a:rPr>
              <a:t>手术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4"/>
          <p:cNvSpPr/>
          <p:nvPr/>
        </p:nvSpPr>
        <p:spPr>
          <a:xfrm>
            <a:off x="6661080" y="3141720"/>
            <a:ext cx="1297080" cy="503280"/>
          </a:xfrm>
          <a:prstGeom prst="roundRect">
            <a:avLst>
              <a:gd name="adj" fmla="val 13745"/>
            </a:avLst>
          </a:prstGeom>
          <a:noFill/>
          <a:ln w="12600">
            <a:solidFill>
              <a:srgbClr val="86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0000"/>
                </a:solidFill>
                <a:latin typeface="华文新魏"/>
                <a:ea typeface="华文新魏"/>
              </a:rPr>
              <a:t>组织初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5"/>
          <p:cNvSpPr/>
          <p:nvPr/>
        </p:nvSpPr>
        <p:spPr>
          <a:xfrm>
            <a:off x="2484360" y="3430440"/>
            <a:ext cx="71928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2340000" y="47260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6002d"/>
                </a:solidFill>
                <a:latin typeface="华文新魏"/>
                <a:ea typeface="华文新魏"/>
              </a:rPr>
              <a:t>我院白内障筛查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7"/>
          <p:cNvSpPr/>
          <p:nvPr/>
        </p:nvSpPr>
        <p:spPr>
          <a:xfrm flipV="1">
            <a:off x="2771640" y="4078440"/>
            <a:ext cx="0" cy="72072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8"/>
          <p:cNvSpPr/>
          <p:nvPr/>
        </p:nvSpPr>
        <p:spPr>
          <a:xfrm>
            <a:off x="4500720" y="5157720"/>
            <a:ext cx="107928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3708360" y="53020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6002d"/>
                </a:solidFill>
                <a:latin typeface="华文新魏"/>
                <a:ea typeface="华文新魏"/>
              </a:rPr>
              <a:t>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0"/>
          <p:cNvSpPr/>
          <p:nvPr/>
        </p:nvSpPr>
        <p:spPr>
          <a:xfrm>
            <a:off x="4140360" y="4294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6002d"/>
                </a:solidFill>
                <a:latin typeface="华文新魏"/>
                <a:ea typeface="华文新魏"/>
              </a:rPr>
              <a:t>复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1"/>
          <p:cNvSpPr/>
          <p:nvPr/>
        </p:nvSpPr>
        <p:spPr>
          <a:xfrm>
            <a:off x="2484360" y="2925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6002d"/>
                </a:solidFill>
                <a:latin typeface="华文新魏"/>
                <a:ea typeface="华文新魏"/>
              </a:rPr>
              <a:t>初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2"/>
          <p:cNvSpPr/>
          <p:nvPr/>
        </p:nvSpPr>
        <p:spPr>
          <a:xfrm>
            <a:off x="3780000" y="3718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6002d"/>
                </a:solidFill>
                <a:latin typeface="华文新魏"/>
                <a:ea typeface="华文新魏"/>
              </a:rPr>
              <a:t>复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3"/>
          <p:cNvSpPr/>
          <p:nvPr/>
        </p:nvSpPr>
        <p:spPr>
          <a:xfrm>
            <a:off x="2340000" y="5014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6002d"/>
                </a:solidFill>
                <a:latin typeface="华文新魏"/>
                <a:ea typeface="华文新魏"/>
              </a:rPr>
              <a:t>我院白内障手术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3276720" y="5518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其它市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5"/>
          <p:cNvSpPr/>
          <p:nvPr/>
        </p:nvSpPr>
        <p:spPr>
          <a:xfrm>
            <a:off x="3708360" y="5375160"/>
            <a:ext cx="0" cy="28728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>
            <a:off x="4429080" y="3430440"/>
            <a:ext cx="28728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7"/>
          <p:cNvSpPr/>
          <p:nvPr/>
        </p:nvSpPr>
        <p:spPr>
          <a:xfrm>
            <a:off x="5437080" y="3430440"/>
            <a:ext cx="28728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6445080" y="3430440"/>
            <a:ext cx="28764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9"/>
          <p:cNvSpPr/>
          <p:nvPr/>
        </p:nvSpPr>
        <p:spPr>
          <a:xfrm flipH="1">
            <a:off x="5796000" y="4438800"/>
            <a:ext cx="287280" cy="28872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0"/>
          <p:cNvSpPr/>
          <p:nvPr/>
        </p:nvSpPr>
        <p:spPr>
          <a:xfrm flipH="1">
            <a:off x="6516720" y="3646440"/>
            <a:ext cx="287280" cy="28908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背景 </a:t>
            </a:r>
            <a:r>
              <a:rPr b="0" lang="en-US" sz="4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Backgr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眼睛"/>
          <p:cNvPicPr/>
          <p:nvPr/>
        </p:nvPicPr>
        <p:blipFill>
          <a:blip r:embed="rId2"/>
          <a:stretch/>
        </p:blipFill>
        <p:spPr>
          <a:xfrm>
            <a:off x="5651640" y="4286160"/>
            <a:ext cx="3492360" cy="2571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632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c8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0000"/>
                </a:solidFill>
                <a:latin typeface="Arial"/>
                <a:ea typeface="Adobe 仿宋 Std R"/>
              </a:rPr>
              <a:t>江西省</a:t>
            </a:r>
            <a:r>
              <a:rPr b="1" lang="zh-CN" sz="2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“</a:t>
            </a:r>
            <a:r>
              <a:rPr b="1" lang="zh-CN" sz="2800" spc="-1" strike="noStrike">
                <a:solidFill>
                  <a:srgbClr val="640000"/>
                </a:solidFill>
                <a:latin typeface="Arial"/>
                <a:ea typeface="Adobe 仿宋 Std R"/>
              </a:rPr>
              <a:t>光明</a:t>
            </a:r>
            <a:r>
              <a:rPr b="1" lang="en-GB" sz="2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·</a:t>
            </a:r>
            <a:r>
              <a:rPr b="1" lang="zh-CN" sz="2800" spc="-1" strike="noStrike">
                <a:solidFill>
                  <a:srgbClr val="640000"/>
                </a:solidFill>
                <a:latin typeface="Arial"/>
                <a:ea typeface="Adobe 仿宋 Std R"/>
              </a:rPr>
              <a:t>微笑</a:t>
            </a:r>
            <a:r>
              <a:rPr b="1" lang="zh-CN" sz="28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”</a:t>
            </a:r>
            <a:r>
              <a:rPr b="1" lang="zh-CN" sz="2800" spc="-1" strike="noStrike">
                <a:solidFill>
                  <a:srgbClr val="640000"/>
                </a:solidFill>
                <a:latin typeface="Arial"/>
                <a:ea typeface="Adobe 仿宋 Std R"/>
              </a:rPr>
              <a:t>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全部由政府筹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解决群众最关心、最直接、最现实的利益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卫生部卫办医政发（</a:t>
            </a:r>
            <a:r>
              <a:rPr b="1" lang="en-GB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2009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）</a:t>
            </a:r>
            <a:r>
              <a:rPr b="1" lang="en-GB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143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号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c8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0000"/>
                </a:solidFill>
                <a:latin typeface="Arial"/>
                <a:ea typeface="Adobe 仿宋 Std R"/>
              </a:rPr>
              <a:t>南昌市政府率先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设南昌市第一医院，南昌市第二医院，安义县人民医院等为主要定点手术医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116000" y="404640"/>
            <a:ext cx="504720" cy="4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未标题-2"/>
          <p:cNvPicPr/>
          <p:nvPr/>
        </p:nvPicPr>
        <p:blipFill>
          <a:blip r:embed="rId1"/>
          <a:stretch/>
        </p:blipFill>
        <p:spPr>
          <a:xfrm>
            <a:off x="-468360" y="18900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c8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40000"/>
                </a:solidFill>
                <a:latin typeface="Arial"/>
                <a:ea typeface="Adobe 仿宋 Std R"/>
              </a:rPr>
              <a:t>如何在短时间内保质、保量地完成大规模的白内障防盲手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眼睛"/>
          <p:cNvPicPr/>
          <p:nvPr/>
        </p:nvPicPr>
        <p:blipFill>
          <a:blip r:embed="rId2"/>
          <a:stretch/>
        </p:blipFill>
        <p:spPr>
          <a:xfrm>
            <a:off x="5651640" y="4286160"/>
            <a:ext cx="3492360" cy="2571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916360" y="4365720"/>
            <a:ext cx="36734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40000"/>
                </a:solidFill>
                <a:uFillTx/>
                <a:latin typeface="Arial"/>
                <a:ea typeface="Adobe 仿宋 Std R"/>
              </a:rPr>
              <a:t>一整套优化工作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65140"/>
                </a:solidFill>
                <a:latin typeface="Arial"/>
                <a:ea typeface="楷体_GB2312"/>
              </a:rPr>
              <a:t>优化的筛查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65140"/>
                </a:solidFill>
                <a:latin typeface="Arial"/>
                <a:ea typeface="楷体_GB2312"/>
              </a:rPr>
              <a:t>优化的复筛＋术前检查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65140"/>
                </a:solidFill>
                <a:latin typeface="Arial"/>
                <a:ea typeface="楷体_GB2312"/>
              </a:rPr>
              <a:t>优化的手术流程和组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65140"/>
                </a:solidFill>
                <a:latin typeface="Arial"/>
                <a:ea typeface="楷体_GB2312"/>
              </a:rPr>
              <a:t>优化的术后随访系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400"/>
                </a:solidFill>
                <a:latin typeface="Arial"/>
                <a:ea typeface="楷体_GB2312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700360" y="306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8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480000"/>
                </a:solidFill>
                <a:latin typeface="Arial"/>
              </a:rPr>
              <a:t>有效合理的组织协调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5651640" y="306864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80000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480000"/>
                </a:solidFill>
                <a:latin typeface="Arial"/>
              </a:rPr>
              <a:t>过硬的医疗技术与硬件设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8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480000"/>
                </a:solidFill>
                <a:latin typeface="Arial"/>
              </a:rPr>
              <a:t>好的政策领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1258920" y="3645000"/>
            <a:ext cx="7520040" cy="28440"/>
          </a:xfrm>
          <a:prstGeom prst="line">
            <a:avLst/>
          </a:prstGeom>
          <a:ln w="936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1258920" y="2781360"/>
            <a:ext cx="7520040" cy="28440"/>
          </a:xfrm>
          <a:prstGeom prst="line">
            <a:avLst/>
          </a:prstGeom>
          <a:ln w="936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4643280" y="3716280"/>
            <a:ext cx="0" cy="720720"/>
          </a:xfrm>
          <a:prstGeom prst="line">
            <a:avLst/>
          </a:prstGeom>
          <a:ln w="28440">
            <a:solidFill>
              <a:srgbClr val="6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619280" y="378936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f6400"/>
                </a:solidFill>
                <a:latin typeface="Arial"/>
                <a:ea typeface="楷体_GB2312"/>
              </a:rPr>
              <a:t>政策宣传→社区初筛→医院复筛→术前检查→手术→术后随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技术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眼睛"/>
          <p:cNvPicPr/>
          <p:nvPr/>
        </p:nvPicPr>
        <p:blipFill>
          <a:blip r:embed="rId2"/>
          <a:stretch/>
        </p:blipFill>
        <p:spPr>
          <a:xfrm>
            <a:off x="5651640" y="4286160"/>
            <a:ext cx="349236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协助乡镇卫生院进行复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术前检查与准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手术的实施与手术室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dc800"/>
              </a:buClr>
              <a:buSzPct val="135000"/>
              <a:buFont typeface="Adobe 仿宋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术后随访体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1116000" y="404640"/>
            <a:ext cx="504720" cy="4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1116000" y="404640"/>
            <a:ext cx="64764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02"/>
          <p:cNvPicPr/>
          <p:nvPr/>
        </p:nvPicPr>
        <p:blipFill>
          <a:blip r:embed="rId3"/>
          <a:stretch/>
        </p:blipFill>
        <p:spPr>
          <a:xfrm>
            <a:off x="3851280" y="0"/>
            <a:ext cx="51260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539640" y="1197000"/>
            <a:ext cx="43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协助乡镇卫生院进行筛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1042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116000" y="404640"/>
            <a:ext cx="64764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9640" y="1197000"/>
            <a:ext cx="43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术前检查与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042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04"/>
          <p:cNvPicPr/>
          <p:nvPr/>
        </p:nvPicPr>
        <p:blipFill>
          <a:blip r:embed="rId3"/>
          <a:stretch/>
        </p:blipFill>
        <p:spPr>
          <a:xfrm>
            <a:off x="3924360" y="54936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80" name="Line 12"/>
          <p:cNvSpPr/>
          <p:nvPr/>
        </p:nvSpPr>
        <p:spPr>
          <a:xfrm>
            <a:off x="3564000" y="659772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83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1116000" y="404640"/>
            <a:ext cx="64764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3564000" y="659772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05"/>
          <p:cNvPicPr/>
          <p:nvPr/>
        </p:nvPicPr>
        <p:blipFill>
          <a:blip r:embed="rId3"/>
          <a:stretch/>
        </p:blipFill>
        <p:spPr>
          <a:xfrm>
            <a:off x="2987640" y="692280"/>
            <a:ext cx="6156360" cy="5046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3"/>
          <p:cNvSpPr/>
          <p:nvPr/>
        </p:nvSpPr>
        <p:spPr>
          <a:xfrm>
            <a:off x="324000" y="981000"/>
            <a:ext cx="43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手术实施与手术的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92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404640"/>
            <a:ext cx="64764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3564000" y="659772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24000" y="981000"/>
            <a:ext cx="43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手术实施与手术的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014560" y="907920"/>
            <a:ext cx="7129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0000"/>
                </a:solidFill>
                <a:latin typeface="Arial"/>
                <a:ea typeface="Adobe 仿宋 Std R"/>
              </a:rPr>
              <a:t>手术方式的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对于核硬度≥</a:t>
            </a:r>
            <a:r>
              <a:rPr b="1" lang="en-US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Ⅳ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度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“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小切口非超声乳化白内障摘除联合人工晶体植入术</a:t>
            </a:r>
            <a:r>
              <a:rPr b="1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对于核硬度</a:t>
            </a:r>
            <a:r>
              <a:rPr b="1" lang="en-US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&lt;Ⅳ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度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“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超声乳化白内障吸除联合人工晶体植入术</a:t>
            </a:r>
            <a:r>
              <a:rPr b="1" lang="zh-CN" sz="2400" spc="-1" strike="noStrike">
                <a:solidFill>
                  <a:srgbClr val="640000"/>
                </a:solidFill>
                <a:latin typeface="Adobe 仿宋 Std R"/>
                <a:ea typeface="Adobe 仿宋 Std R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7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101" name="Oval 18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40000"/>
            </a:solidFill>
            <a:miter/>
          </a:ln>
        </p:spPr>
      </p:pic>
      <p:sp>
        <p:nvSpPr>
          <p:cNvPr id="105" name="Text Box 3"/>
          <p:cNvSpPr/>
          <p:nvPr/>
        </p:nvSpPr>
        <p:spPr>
          <a:xfrm>
            <a:off x="179280" y="476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80000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1116000" y="404640"/>
            <a:ext cx="647640" cy="4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24000" y="1197000"/>
            <a:ext cx="43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826920" y="1773360"/>
            <a:ext cx="0" cy="3311280"/>
          </a:xfrm>
          <a:prstGeom prst="line">
            <a:avLst/>
          </a:prstGeom>
          <a:ln w="19080">
            <a:solidFill>
              <a:srgbClr val="b651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3564000" y="6597720"/>
            <a:ext cx="525600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4000" y="981000"/>
            <a:ext cx="43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0000"/>
                </a:solidFill>
                <a:latin typeface="Adobe 仿宋 Std R"/>
                <a:ea typeface="Adobe 仿宋 Std R"/>
              </a:rPr>
              <a:t>手术实施与手术的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050920" y="333360"/>
            <a:ext cx="5256360" cy="0"/>
          </a:xfrm>
          <a:prstGeom prst="line">
            <a:avLst/>
          </a:prstGeom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7380360" y="5373720"/>
            <a:ext cx="1512720" cy="1008000"/>
          </a:xfrm>
          <a:prstGeom prst="roundRect">
            <a:avLst>
              <a:gd name="adj" fmla="val 16667"/>
            </a:avLst>
          </a:prstGeom>
          <a:blipFill rotWithShape="0">
            <a:blip r:embed="rId3">
              <a:alphaModFix amt="90000"/>
            </a:blip>
            <a:srcRect/>
            <a:stretch/>
          </a:blipFill>
          <a:ln w="9360">
            <a:solidFill>
              <a:srgbClr val="b6514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403280" y="907920"/>
            <a:ext cx="7740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0000"/>
                </a:solidFill>
                <a:latin typeface="Arial"/>
                <a:ea typeface="Adobe 仿宋 Std R"/>
              </a:rPr>
              <a:t>批量手术强度下手术室的规范化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手术室的环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   </a:t>
            </a:r>
            <a:r>
              <a:rPr b="1" lang="en-US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3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间独立的眼科专用手术室和</a:t>
            </a:r>
            <a:r>
              <a:rPr b="1" lang="en-US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1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间独立的清洗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   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空调、空气净化装置均安装在手术床的尾部，远离手术视野的墙壁上，并保证使用时通风口朝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手术室的消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    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严格按照国家卫生部颁布的</a:t>
            </a:r>
            <a:r>
              <a:rPr b="1" lang="en-US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《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消毒技术规范</a:t>
            </a:r>
            <a:r>
              <a:rPr b="1" lang="en-US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》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（</a:t>
            </a:r>
            <a:r>
              <a:rPr b="1" lang="en-US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GB15979-2002</a:t>
            </a:r>
            <a:r>
              <a:rPr b="1" lang="zh-CN" sz="2400" spc="-1" strike="noStrike">
                <a:solidFill>
                  <a:srgbClr val="640000"/>
                </a:solidFill>
                <a:latin typeface="Arial"/>
                <a:ea typeface="Adobe 仿宋 Std R"/>
              </a:rPr>
              <a:t>）执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c8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8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8172360" y="-171360"/>
            <a:ext cx="1224000" cy="1655640"/>
            <a:chOff x="8172360" y="-171360"/>
            <a:chExt cx="1224000" cy="1655640"/>
          </a:xfrm>
        </p:grpSpPr>
        <p:sp>
          <p:nvSpPr>
            <p:cNvPr id="115" name="Oval 13"/>
            <p:cNvSpPr/>
            <p:nvPr/>
          </p:nvSpPr>
          <p:spPr>
            <a:xfrm>
              <a:off x="8172360" y="-171360"/>
              <a:ext cx="1224000" cy="115236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4"/>
            <p:cNvSpPr/>
            <p:nvPr/>
          </p:nvSpPr>
          <p:spPr>
            <a:xfrm>
              <a:off x="8459640" y="765000"/>
              <a:ext cx="468360" cy="432000"/>
            </a:xfrm>
            <a:prstGeom prst="ellipse">
              <a:avLst/>
            </a:prstGeom>
            <a:solidFill>
              <a:srgbClr val="feb4a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8675640" y="1268280"/>
              <a:ext cx="217440" cy="216000"/>
            </a:xfrm>
            <a:prstGeom prst="ellipse">
              <a:avLst/>
            </a:prstGeom>
            <a:solidFill>
              <a:srgbClr val="feb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0:37:59Z</dcterms:created>
  <dc:creator>User</dc:creator>
  <dc:description/>
  <dc:language>en-US</dc:language>
  <cp:lastModifiedBy>Chao Kai</cp:lastModifiedBy>
  <dcterms:modified xsi:type="dcterms:W3CDTF">2010-07-23T16:52:33Z</dcterms:modified>
  <cp:revision>20</cp:revision>
  <dc:subject/>
  <dc:title>幻灯片 1</dc:title>
</cp:coreProperties>
</file>