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F92-62ED-4973-B649-2370569D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72A8-5188-4BB9-BFDE-4BE2F764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35  25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8BEB-9D5B-47B0-9E19-28090298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35  25eyes°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695-B652-421B-811D-F53F78EC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BA8-A1D1-4F98-B562-9CF4B145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FFF-328D-4A8E-830C-CDDF82E7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A60-E4CB-4584-B0FC-19C871DA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8DC-006F-4549-971A-9466031A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B90-ADD9-47E4-9470-475B2E2D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2CC-01E6-4F4E-8646-82E1C13A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993-448C-400C-93AA-BFCFA9C8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40F-9A1C-4C3D-BF90-0D2D3566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3FC-4661-4A59-8F2A-76E9119B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47D-4454-4A73-8F05-5CB8C3E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535-A227-4FCA-86E0-4482C54C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891D-75D2-48A1-BA23-EF1142160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7467480" y="649116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66ff"/>
                </a:solidFill>
                <a:latin typeface="Arial"/>
                <a:ea typeface="楷体_GB2312"/>
              </a:rPr>
              <a:t>中山眼科中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6230;&#20307;&#33073;&#20301;+&#30333;&#20869;&#38556;.mpg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白內障并晶狀體不全脫位的手術治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4419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中山大學 中山眼科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鄭丹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小  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41200" y="1988640"/>
            <a:ext cx="6202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533520" y="3200400"/>
            <a:ext cx="2209680" cy="106668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靜的態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38080" y="1752480"/>
            <a:ext cx="2057400" cy="18288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581280" y="1600200"/>
            <a:ext cx="2210040" cy="106668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6400800" y="3124080"/>
            <a:ext cx="2209680" cy="106704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細緻的操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89160" y="1752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分的準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2666880" y="4724280"/>
            <a:ext cx="4267440" cy="1676520"/>
          </a:xfrm>
          <a:custGeom>
            <a:avLst/>
            <a:gdLst>
              <a:gd name="textAreaLeft" fmla="*/ 0 w 4267440"/>
              <a:gd name="textAreaRight" fmla="*/ 4267800 w 426744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功的傑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6483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3124080" y="3809880"/>
            <a:ext cx="8384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 flipH="1">
            <a:off x="5562360" y="411480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5435640" y="1628640"/>
            <a:ext cx="2846520" cy="12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謝謝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內障并晶狀體半脫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9520" y="4647960"/>
            <a:ext cx="4876920" cy="1935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619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96ff"/>
                </a:solidFill>
                <a:latin typeface="Arial"/>
              </a:rPr>
              <a:t>保持晶状体的稳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619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96ff"/>
                </a:solidFill>
                <a:latin typeface="Arial"/>
              </a:rPr>
              <a:t>减少囊袋和悬韧带损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619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96ff"/>
                </a:solidFill>
                <a:latin typeface="Arial"/>
              </a:rPr>
              <a:t>减小术中术后并发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133720" y="1981080"/>
            <a:ext cx="4343400" cy="106704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5562720" y="1828800"/>
            <a:ext cx="3352680" cy="1752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0" y="1447920"/>
            <a:ext cx="3352680" cy="2361960"/>
          </a:xfrm>
          <a:prstGeom prst="cloudCallout">
            <a:avLst>
              <a:gd name="adj1" fmla="val 51703"/>
              <a:gd name="adj2" fmla="val 6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杂而危险的手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3581280" y="1447920"/>
            <a:ext cx="5029200" cy="2666880"/>
          </a:xfrm>
          <a:prstGeom prst="cloudCallout">
            <a:avLst>
              <a:gd name="adj1" fmla="val -22444"/>
              <a:gd name="adj2" fmla="val 528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990720" y="2666880"/>
            <a:ext cx="3276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914400" y="3200400"/>
            <a:ext cx="3124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1143000" y="3048120"/>
            <a:ext cx="3124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1523880" y="3048120"/>
            <a:ext cx="3124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暴风截屏2"/>
          <p:cNvPicPr/>
          <p:nvPr/>
        </p:nvPicPr>
        <p:blipFill>
          <a:blip r:embed="rId1"/>
          <a:stretch/>
        </p:blipFill>
        <p:spPr>
          <a:xfrm>
            <a:off x="5029200" y="1371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病例資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86ff"/>
                </a:solidFill>
                <a:latin typeface="Arial"/>
              </a:rPr>
              <a:t>晶狀體半脫位并白內障        </a:t>
            </a:r>
            <a:r>
              <a:rPr b="1" lang="en-US" sz="3000" spc="-1" strike="noStrike">
                <a:solidFill>
                  <a:srgbClr val="0d86ff"/>
                </a:solidFill>
                <a:latin typeface="Arial"/>
              </a:rPr>
              <a:t>31</a:t>
            </a:r>
            <a:r>
              <a:rPr b="1" lang="zh-CN" sz="3000" spc="-1" strike="noStrike">
                <a:solidFill>
                  <a:srgbClr val="0d86ff"/>
                </a:solidFill>
                <a:latin typeface="Arial"/>
              </a:rPr>
              <a:t>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86ff"/>
                </a:solidFill>
                <a:latin typeface="Arial"/>
              </a:rPr>
              <a:t>30~78</a:t>
            </a:r>
            <a:r>
              <a:rPr b="1" lang="zh-CN" sz="3000" spc="-1" strike="noStrike">
                <a:solidFill>
                  <a:srgbClr val="0d86ff"/>
                </a:solidFill>
                <a:latin typeface="Arial"/>
              </a:rPr>
              <a:t>歲（</a:t>
            </a:r>
            <a:r>
              <a:rPr b="1" lang="en-US" sz="3000" spc="-1" strike="noStrike">
                <a:solidFill>
                  <a:srgbClr val="0d86ff"/>
                </a:solidFill>
                <a:latin typeface="Arial"/>
              </a:rPr>
              <a:t>46.68±10.98</a:t>
            </a:r>
            <a:r>
              <a:rPr b="1" lang="zh-CN" sz="3000" spc="-1" strike="noStrike">
                <a:solidFill>
                  <a:srgbClr val="0d86ff"/>
                </a:solidFill>
                <a:latin typeface="Arial"/>
              </a:rPr>
              <a:t>歲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86ff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457200" y="2666880"/>
          <a:ext cx="8077320" cy="39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07732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病例資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86ff"/>
                </a:solidFill>
                <a:latin typeface="Arial"/>
              </a:rPr>
              <a:t>晶狀體核 ：</a:t>
            </a:r>
            <a:r>
              <a:rPr b="1" lang="en-US" sz="2600" spc="-1" strike="noStrike">
                <a:solidFill>
                  <a:srgbClr val="0d86ff"/>
                </a:solidFill>
                <a:latin typeface="Arial"/>
              </a:rPr>
              <a:t>Ⅲ</a:t>
            </a:r>
            <a:r>
              <a:rPr b="1" lang="zh-CN" sz="2600" spc="-1" strike="noStrike">
                <a:solidFill>
                  <a:srgbClr val="0d86ff"/>
                </a:solidFill>
                <a:latin typeface="Arial"/>
              </a:rPr>
              <a:t>～</a:t>
            </a:r>
            <a:r>
              <a:rPr b="1" lang="en-US" sz="2600" spc="-1" strike="noStrike">
                <a:solidFill>
                  <a:srgbClr val="0d86ff"/>
                </a:solidFill>
                <a:latin typeface="Arial"/>
              </a:rPr>
              <a:t>Ⅳ</a:t>
            </a:r>
            <a:r>
              <a:rPr b="1" lang="zh-CN" sz="2600" spc="-1" strike="noStrike">
                <a:solidFill>
                  <a:srgbClr val="0d86ff"/>
                </a:solidFill>
                <a:latin typeface="Arial"/>
              </a:rPr>
              <a:t>級    術前視力：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LP~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晶狀體脫位範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304920" y="2895480"/>
          <a:ext cx="8610480" cy="33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8610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手術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6120" y="1690560"/>
            <a:ext cx="7169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切口超聲乳化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d86ff"/>
                </a:solidFill>
                <a:latin typeface="Arial"/>
              </a:rPr>
              <a:t>根據脫位程度、核的硬度配合使用</a:t>
            </a:r>
            <a:r>
              <a:rPr b="1" lang="en-US" sz="3200" spc="-1" strike="noStrike">
                <a:solidFill>
                  <a:srgbClr val="0d86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d86ff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d8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d86ff"/>
                </a:solidFill>
                <a:latin typeface="Arial"/>
              </a:rPr>
              <a:t>个個虹膜拉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入：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三片折曡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IOL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囊袋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CTR/MCTR+IOL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囊袋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睫狀溝双襻固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虹膜夾型前房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I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WindowsMediaPlayer1"/>
          <p:cNvGraphicFramePr/>
          <p:nvPr/>
        </p:nvGraphicFramePr>
        <p:xfrm>
          <a:off x="5257800" y="1852560"/>
          <a:ext cx="281952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852560"/>
                    <a:ext cx="281952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手術錄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術中并發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512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8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86ff"/>
                </a:solidFill>
                <a:latin typeface="Arial"/>
              </a:rPr>
              <a:t>囊膜撕裂                   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8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86ff"/>
                </a:solidFill>
                <a:latin typeface="Arial"/>
              </a:rPr>
              <a:t>脫位範圍擴大            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8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86ff"/>
                </a:solidFill>
                <a:latin typeface="Arial"/>
              </a:rPr>
              <a:t>核下墜                       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8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86ff"/>
                </a:solidFill>
                <a:latin typeface="Arial"/>
              </a:rPr>
              <a:t>眼内明显出血            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玻璃体脫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d8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白内障摘除過程         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撕除囊袋后            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眼    范围≥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術 后 傚 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853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8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BCVA   0.2~1.2                   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（≥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0.5  23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8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角膜水腫</a:t>
            </a:r>
            <a:r>
              <a:rPr b="0" lang="zh-CN" sz="2800" spc="-1" strike="noStrike">
                <a:solidFill>
                  <a:srgbClr val="0d86ff"/>
                </a:solidFill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眼   术后早期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zh-CN" sz="2400" spc="-1" strike="noStrike">
                <a:solidFill>
                  <a:srgbClr val="f20000"/>
                </a:solidFill>
                <a:latin typeface="Arial"/>
              </a:rPr>
              <a:t>玻璃体切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zh-CN" sz="2400" spc="-1" strike="noStrike">
                <a:solidFill>
                  <a:srgbClr val="f20000"/>
                </a:solidFill>
                <a:latin typeface="Arial"/>
              </a:rPr>
              <a:t>（</a:t>
            </a:r>
            <a:r>
              <a:rPr b="0" i="1" lang="en-US" sz="2400" spc="-1" strike="noStrike">
                <a:solidFill>
                  <a:srgbClr val="f20000"/>
                </a:solidFill>
                <a:latin typeface="Arial"/>
              </a:rPr>
              <a:t>P=0.037</a:t>
            </a:r>
            <a:r>
              <a:rPr b="0" i="1" lang="zh-CN" sz="2400" spc="-1" strike="noStrike">
                <a:solidFill>
                  <a:srgbClr val="f2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脱位程度、虹膜拉鈎數量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&gt;0.0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超聲乳化能量及時間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&gt;0.0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 I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植入方式   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&gt;0.0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d8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6ff"/>
                </a:solidFill>
                <a:latin typeface="Arial"/>
              </a:rPr>
              <a:t>IOL</a:t>
            </a:r>
            <a:r>
              <a:rPr b="1" lang="zh-CN" sz="2800" spc="-1" strike="noStrike">
                <a:solidFill>
                  <a:srgbClr val="0d86ff"/>
                </a:solidFill>
                <a:latin typeface="Arial"/>
              </a:rPr>
              <a:t>偏位、前房渗出、角膜失代償、視網膜脫離</a:t>
            </a:r>
            <a:r>
              <a:rPr b="1" lang="zh-CN" sz="2800" spc="-1" strike="noStrike">
                <a:solidFill>
                  <a:srgbClr val="57ab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晶狀體脱位術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aa03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4360" y="3645000"/>
            <a:ext cx="3456000" cy="281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aa054"/>
          <p:cNvPicPr/>
          <p:nvPr/>
        </p:nvPicPr>
        <p:blipFill>
          <a:blip r:embed="rId2"/>
          <a:stretch/>
        </p:blipFill>
        <p:spPr>
          <a:xfrm>
            <a:off x="5148360" y="3716280"/>
            <a:ext cx="3311280" cy="267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tori009"/>
          <p:cNvPicPr/>
          <p:nvPr/>
        </p:nvPicPr>
        <p:blipFill>
          <a:blip r:embed="rId3"/>
          <a:stretch/>
        </p:blipFill>
        <p:spPr>
          <a:xfrm>
            <a:off x="2843280" y="907920"/>
            <a:ext cx="3408120" cy="266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042920" y="6453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372360" y="1700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前房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o Kai</cp:lastModifiedBy>
  <dcterms:modified xsi:type="dcterms:W3CDTF">2010-06-27T14:57:34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